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2800" y="744120"/>
            <a:ext cx="53769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F67C-302C-4F48-AB38-900E1895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CI provided 3 millions for study on the 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sequences of Chernobyl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cident on th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oid cancer and leu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a dec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OARD funding in the amount of 1.9 millions was provided pref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ably for basic research in the area of material science, namely tit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and alu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um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loys that includes a one half of this funding; the other half supported research in optics, nuclear physics,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icond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rs, healt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SDA approved 14 projects in BIO area with Uzbek institutes and funded up to date 9 of them in the amount of 2.7 millions, There are 4projects at the Institute of Gen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cs and Plant Experimental Biology, 2 projects at the Institute of Bioorg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c Chemistry, 2 projects at the Institute of Zo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y, and 1 at the Cotton Growing Re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ch Institute. The list of the projects will be provid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PP supported 9 projects in the amount of 3.6 millions, the most of these projects are dealing with the pre-commercialization stage aimed at the creation of new employments in Ukraine. The most impressive projects will be presented later in this presenta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PA has become STCU Partner recently, in 2003; the first project will be launched soon; it will be devoted to M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agement and Destruction of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solete Pesticides in Pilot Oblasts in Ukraine (Cherkassy and Lviv Oblast).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IPP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ultip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e coating machine that will be installed at the General Electric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ding and Brazing Technology for Repair of Aircraft and Gas Turbine that will be implemented in Ukraine in cooperation with Pratt&amp;Whittne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ew revol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ionary Europium Technology for S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itizing Food and Medical supplies, which creates a cornerstone for future multimillion industry (Invitation to the Presentation/Workshop is attache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A348-CD18-4260-BEF1-FEC156C54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a: 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9.7 million provided by the Non-governmental Partners up to date there is 1.6 million from Canada, 0.6 million from EU, and 7.6 million from the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696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oduce ‘line’ activity, as refer to pictu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ment of three different areas:   Project Mgmt, Acct, and Ad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ority for S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imilar, with fourth player:  Partnership M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5160" cy="3721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, STCU Governing Parties include 8 stat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, EU, and the USA are the Funding Pa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countries of the FSU are the Recipient Pa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97 STCU has 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hed a Partner Program providing govern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al agencies and priv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, industrial companies 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stered at the territories of Funding Parties with a possibility of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ess to highly 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ied scientific community of the Recipient Countries and implem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 of R&amp;D projects using STCU s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ices and p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 including project administ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on, 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oring, and 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p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e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0CA-DAEC-4ABA-930E-B763A4EE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D65-8DAA-4E10-A715-4DDCA674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02B-B502-4D27-8A65-4B805CB2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20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920" y="159984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20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920" y="4022280"/>
            <a:ext cx="28029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989-FC9E-462D-95E5-E91E93EE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3A9-1FCF-4511-91F5-0FCCDBC3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7CC-0882-47FF-9D46-36BDAC57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E36-32C4-4A83-8D38-3AB952B5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4AA-2F06-40F0-B232-E55FE370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520" y="2743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80D-08FC-4130-9053-985B33C4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FEC-B6AE-4ACF-B799-1D54821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17960" y="402228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0E5-C8D9-4BEA-ABEC-A43083A3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17960" y="1599840"/>
            <a:ext cx="424836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22280"/>
            <a:ext cx="87058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5C9-780A-4B45-B10E-955F19CC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360" y="6453000"/>
            <a:ext cx="2597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63FF-1452-489A-B8C4-673EFA4C2A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453000"/>
            <a:ext cx="31366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453000"/>
            <a:ext cx="20638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067F-231E-49FD-8A4B-41D0BD619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0160" y="284040"/>
            <a:ext cx="769680" cy="11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Project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0600" y="1633680"/>
          <a:ext cx="976608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633680"/>
                    <a:ext cx="976608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800000">
            <a:off x="272520" y="3087720"/>
            <a:ext cx="423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ding, $US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960" y="1125360"/>
            <a:ext cx="67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99"/>
                </a:solidFill>
                <a:latin typeface="Arial"/>
              </a:rPr>
              <a:t>Disbursement of funds for on-going project activities, i.e., not grants awarded for futur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48520" y="5084640"/>
            <a:ext cx="121932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473960" y="544500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00880" y="2298600"/>
            <a:ext cx="504720" cy="1489320"/>
          </a:xfrm>
          <a:custGeom>
            <a:avLst/>
            <a:gdLst>
              <a:gd name="textAreaLeft" fmla="*/ 322560 w 504720"/>
              <a:gd name="textAreaRight" fmla="*/ 505080 w 504720"/>
              <a:gd name="textAreaTop" fmla="*/ 38520 h 1489320"/>
              <a:gd name="textAreaBottom" fmla="*/ 1450800 h 148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32880" y="215424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3019320"/>
            <a:ext cx="1800360" cy="770040"/>
          </a:xfrm>
          <a:prstGeom prst="hexagon">
            <a:avLst>
              <a:gd name="adj" fmla="val 5845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34320" y="2247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75600" y="31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53920" y="5157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494-BC50-4124-BEAC-229563280D2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3A091-AED0-4328-8879-838223EFC3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ke Use of STC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918036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ate, 17 Government Partner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ATOM Association,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Planck Institute of Plasma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Department of Energy/Initiatives for Proliferation Prevention (I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N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s of Health/National Canc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F European Office of Aerospace Research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-Chem Redirec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Protection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16880" y="47628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58B-E13C-4AB5-945A-CAA689C51B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C718D-FDEF-4B8D-B39C-84AF4EBD75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vernment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-5776920" y="2205000"/>
          <a:ext cx="2000556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76920" y="2205000"/>
                    <a:ext cx="2000556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52520" y="1628640"/>
            <a:ext cx="71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81 Unique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16.5 Million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1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9600" y="404640"/>
            <a:ext cx="1800000" cy="770040"/>
          </a:xfrm>
          <a:prstGeom prst="hexagon">
            <a:avLst>
              <a:gd name="adj" fmla="val 58439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268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58920" y="247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2BC-8355-4DCD-B1F0-B871DDD9FC7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6FEE1-CF54-4FE6-B1AE-15EF87B91E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 Partner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Key to Self-Sustain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ate, over 90 Non-Government Partners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+S Electron Technologies (Californi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 Corporation (Minnesota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ont (Delaware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lectric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(New York, 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CL Chalk River Laboratories (Ontario, Can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fina (Paris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in (Clermont-Ferrand, 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77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66E-F036-4886-9F69-05911AECAF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7E281-278A-4222-8237-9688009E5E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Government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artner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1569960" y="2203560"/>
          <a:ext cx="1281564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69960" y="2203560"/>
                    <a:ext cx="1281564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33520" y="1628640"/>
            <a:ext cx="521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:  76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9.1 Million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€0.5 M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240" y="476280"/>
            <a:ext cx="1655640" cy="7095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704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1400" y="6467400"/>
            <a:ext cx="44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stimated exchange rate, averaged over time, 1 USD: 1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070-B5C4-4C52-AC24-BA13078C01A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951DE-4DF7-40DF-A773-E4C9BF0421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Process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596960"/>
          <a:ext cx="874404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96960"/>
                    <a:ext cx="874404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74800" y="1487520"/>
            <a:ext cx="3862440" cy="52545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3800" y="1728720"/>
            <a:ext cx="3381120" cy="746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440" y="1744560"/>
            <a:ext cx="323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Development of a proposal by the scientific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N-LINE REGISTRATION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39680" y="2682720"/>
            <a:ext cx="3438360" cy="746280"/>
            <a:chOff x="1039680" y="2682720"/>
            <a:chExt cx="3438360" cy="746280"/>
          </a:xfrm>
        </p:grpSpPr>
        <p:sp>
          <p:nvSpPr>
            <p:cNvPr id="169" name=""/>
            <p:cNvSpPr/>
            <p:nvPr/>
          </p:nvSpPr>
          <p:spPr>
            <a:xfrm>
              <a:off x="1087920" y="2682720"/>
              <a:ext cx="339012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9680" y="2694240"/>
              <a:ext cx="336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olicitation of support from scientific collaborators in territories of Financing Pa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14560" y="4149720"/>
            <a:ext cx="3384360" cy="745920"/>
            <a:chOff x="1114560" y="4149720"/>
            <a:chExt cx="3384360" cy="745920"/>
          </a:xfrm>
        </p:grpSpPr>
        <p:sp>
          <p:nvSpPr>
            <p:cNvPr id="172" name=""/>
            <p:cNvSpPr/>
            <p:nvPr/>
          </p:nvSpPr>
          <p:spPr>
            <a:xfrm>
              <a:off x="1114560" y="4149720"/>
              <a:ext cx="338436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98440" y="4149720"/>
              <a:ext cx="3254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view of the propos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y scientific advisors hired by each Financing Par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11320" y="5086440"/>
            <a:ext cx="3390480" cy="745920"/>
            <a:chOff x="1111320" y="5086440"/>
            <a:chExt cx="3390480" cy="745920"/>
          </a:xfrm>
        </p:grpSpPr>
        <p:sp>
          <p:nvSpPr>
            <p:cNvPr id="175" name=""/>
            <p:cNvSpPr/>
            <p:nvPr/>
          </p:nvSpPr>
          <p:spPr>
            <a:xfrm>
              <a:off x="1111320" y="5086440"/>
              <a:ext cx="3390480" cy="7459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83280" y="5097960"/>
              <a:ext cx="231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STCU Governing Bo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pproves project fu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(June and Decembe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81600" y="6021360"/>
            <a:ext cx="3192120" cy="52020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Historically, only one in four 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eventually wins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63800" y="3646440"/>
            <a:ext cx="3438000" cy="316080"/>
            <a:chOff x="1063800" y="3646440"/>
            <a:chExt cx="3438000" cy="316080"/>
          </a:xfrm>
        </p:grpSpPr>
        <p:sp>
          <p:nvSpPr>
            <p:cNvPr id="179" name=""/>
            <p:cNvSpPr/>
            <p:nvPr/>
          </p:nvSpPr>
          <p:spPr>
            <a:xfrm>
              <a:off x="1112040" y="3646440"/>
              <a:ext cx="338976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63800" y="3651120"/>
              <a:ext cx="33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57800" y="1487520"/>
            <a:ext cx="3943440" cy="525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009900"/>
              </a:gs>
              <a:gs pos="100000">
                <a:srgbClr val="3333cc"/>
              </a:gs>
            </a:gsLst>
            <a:lin ang="10800000"/>
          </a:gra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5560" y="1728720"/>
            <a:ext cx="3386160" cy="1379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53080" y="1747800"/>
            <a:ext cx="3317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Organisation from territory of one of the Financing Parties expresses interest in STCU program and applies to become a PART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99"/>
                </a:solidFill>
                <a:uFillTx/>
                <a:latin typeface="Arial"/>
              </a:rPr>
              <a:t>PARTIES’ APPROVAL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30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605560" y="3286080"/>
            <a:ext cx="3388680" cy="746280"/>
            <a:chOff x="5605560" y="3286080"/>
            <a:chExt cx="3388680" cy="746280"/>
          </a:xfrm>
        </p:grpSpPr>
        <p:sp>
          <p:nvSpPr>
            <p:cNvPr id="185" name=""/>
            <p:cNvSpPr/>
            <p:nvPr/>
          </p:nvSpPr>
          <p:spPr>
            <a:xfrm>
              <a:off x="5605560" y="3286080"/>
              <a:ext cx="3388680" cy="74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06960" y="3297600"/>
              <a:ext cx="2462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Partner and scientific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gree on a pro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and develop propos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19600" y="4699080"/>
            <a:ext cx="3391200" cy="747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53080" y="4716360"/>
            <a:ext cx="32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Review of the proposal by officials of each Financing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45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65600" y="4194000"/>
            <a:ext cx="3438360" cy="316080"/>
            <a:chOff x="5565600" y="4194000"/>
            <a:chExt cx="3438360" cy="316080"/>
          </a:xfrm>
        </p:grpSpPr>
        <p:sp>
          <p:nvSpPr>
            <p:cNvPr id="190" name=""/>
            <p:cNvSpPr/>
            <p:nvPr/>
          </p:nvSpPr>
          <p:spPr>
            <a:xfrm>
              <a:off x="5613840" y="4194000"/>
              <a:ext cx="3390120" cy="316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5600" y="4198680"/>
              <a:ext cx="33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Concurrence from Host Gover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653080" y="5589720"/>
            <a:ext cx="3390840" cy="745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07160" y="5608800"/>
            <a:ext cx="316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STCU Governing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approves project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(out-of-cyc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9800" y="102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ula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33240" y="102708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ne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C23-F340-4FFF-8D5D-BA9C3E336A5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CB782-1706-45D7-ADF0-5B0519F757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L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ort required: clearly defined form and applica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competition for funding:  many applicants meet selection crite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ort required, to identify program/s and fill out varied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competitors: each program interests smaller group of applicants with focused research and development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Governmental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st effort required, to search for potential commercial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rect competitor for this source of fu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014-1F49-424B-B5A7-D5031A1E6E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77AAE-174B-4E03-A105-25B3A6173E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t-Writing Workshop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eting More Effec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ing Your Ability to Compete for STCU Grants, Part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0880" y="549360"/>
            <a:ext cx="312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&amp; TECHNOLOGY CENTER IN UKRA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8440" y="6464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65400" y="4522680"/>
            <a:ext cx="129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65B-2B21-4CED-A1F7-0A0577FA599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4CBB7-B5C0-4A55-8A55-1DCC92C9D1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TCU Do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channels assistance to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tax-free payments (grants) to researchers’ personal bank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s clearance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equipment and materials free of duties and t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ing in grant-writing and proje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helps donor countries achieve their polic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peaceful, civilia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government concurrence and security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ional project management, including technical and financial monito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of Recipient Parties’ R&amp;D communiti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6B7-75CB-46E0-8DEE-53D410BADC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5D6E5-DE0C-42A9-8EB8-C945ADC1A1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0200" y="1557360"/>
            <a:ext cx="8694720" cy="1512720"/>
          </a:xfrm>
          <a:custGeom>
            <a:avLst/>
            <a:gdLst>
              <a:gd name="textAreaLeft" fmla="*/ 1090800 w 8694720"/>
              <a:gd name="textAreaRight" fmla="*/ 7603920 w 8694720"/>
              <a:gd name="textAreaTop" fmla="*/ 189720 h 1512720"/>
              <a:gd name="textAreaBottom" fmla="*/ 132300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72" y="21600"/>
                </a:lnTo>
                <a:lnTo>
                  <a:pt x="1728" y="216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Grantsma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Grantsmanship” defined; how to win new 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-writing: content, form and sty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a “typical” propo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8160" y="3141720"/>
            <a:ext cx="7157880" cy="1652400"/>
          </a:xfrm>
          <a:custGeom>
            <a:avLst/>
            <a:gdLst>
              <a:gd name="textAreaLeft" fmla="*/ 995760 w 7157880"/>
              <a:gd name="textAreaRight" fmla="*/ 6162120 w 7157880"/>
              <a:gd name="textAreaTop" fmla="*/ 229680 h 1652400"/>
              <a:gd name="textAreaBottom" fmla="*/ 142272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41" y="21600"/>
                </a:lnTo>
                <a:lnTo>
                  <a:pt x="2259" y="21600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ngthening Abil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e for STCU 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 I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roduction to ST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TCU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2160" y="5878440"/>
            <a:ext cx="4752720" cy="790560"/>
          </a:xfrm>
          <a:custGeom>
            <a:avLst/>
            <a:gdLst>
              <a:gd name="textAreaLeft" fmla="*/ 598320 w 4752720"/>
              <a:gd name="textAreaRight" fmla="*/ 4154400 w 4752720"/>
              <a:gd name="textAreaTop" fmla="*/ 99360 h 790560"/>
              <a:gd name="textAreaBottom" fmla="*/ 6912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854" y="21600"/>
                </a:lnTo>
                <a:lnTo>
                  <a:pt x="1746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ying for STCU Regular Project Fund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0160" y="4898880"/>
            <a:ext cx="5616720" cy="892440"/>
          </a:xfrm>
          <a:custGeom>
            <a:avLst/>
            <a:gdLst>
              <a:gd name="textAreaLeft" fmla="*/ 675000 w 5616720"/>
              <a:gd name="textAreaRight" fmla="*/ 4941720 w 5616720"/>
              <a:gd name="textAreaTop" fmla="*/ 107280 h 892440"/>
              <a:gd name="textAreaBottom" fmla="*/ 78516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077" y="21600"/>
                </a:lnTo>
                <a:lnTo>
                  <a:pt x="1523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US Review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4178160"/>
            <a:ext cx="1297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8ED-5D3E-4E9D-86D3-B858427E04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6AAC5-AFA0-4762-985D-8ED47BB4E7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ust assure donors that monies are well-spent, towards aim of non-proliferation of WMD scientif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project can be audited at donor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rants must be traceable to real scientists, doing re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TCU, salaries are of more importance than equi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posed purchases must clearly support ability of peopl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3E0-04FF-4B2F-B9C9-271232B20B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81062-657E-4713-A98F-8D59D8FA7E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CU Project Management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designates staff to monitor each regular and partner pro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Coordin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Accou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taff visit each project on a regular, schedule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six months of operative commencem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there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ly if problems encou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959-7299-4BDF-A3B8-AAD2215186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31977-9F4E-4106-995A-4DC1B92ECF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0160" y="3760920"/>
            <a:ext cx="9432720" cy="1755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0160" y="2008080"/>
            <a:ext cx="9432720" cy="175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8964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6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54720" y="3594240"/>
            <a:ext cx="366480" cy="428760"/>
            <a:chOff x="6354720" y="3594240"/>
            <a:chExt cx="366480" cy="428760"/>
          </a:xfrm>
        </p:grpSpPr>
        <p:sp>
          <p:nvSpPr>
            <p:cNvPr id="220" name=""/>
            <p:cNvSpPr/>
            <p:nvPr/>
          </p:nvSpPr>
          <p:spPr>
            <a:xfrm>
              <a:off x="667692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472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715000" y="343368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459240"/>
            <a:ext cx="0" cy="304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8800" y="3413160"/>
            <a:ext cx="0" cy="304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642000" y="3592440"/>
            <a:ext cx="366480" cy="428760"/>
            <a:chOff x="6642000" y="3592440"/>
            <a:chExt cx="366480" cy="428760"/>
          </a:xfrm>
        </p:grpSpPr>
        <p:sp>
          <p:nvSpPr>
            <p:cNvPr id="226" name=""/>
            <p:cNvSpPr/>
            <p:nvPr/>
          </p:nvSpPr>
          <p:spPr>
            <a:xfrm>
              <a:off x="696420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4200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947640" y="3591000"/>
            <a:ext cx="366480" cy="428760"/>
            <a:chOff x="6947640" y="3591000"/>
            <a:chExt cx="366480" cy="428760"/>
          </a:xfrm>
        </p:grpSpPr>
        <p:sp>
          <p:nvSpPr>
            <p:cNvPr id="229" name=""/>
            <p:cNvSpPr/>
            <p:nvPr/>
          </p:nvSpPr>
          <p:spPr>
            <a:xfrm>
              <a:off x="72702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764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251480" y="3592440"/>
            <a:ext cx="366480" cy="428760"/>
            <a:chOff x="7251480" y="3592440"/>
            <a:chExt cx="366480" cy="428760"/>
          </a:xfrm>
        </p:grpSpPr>
        <p:sp>
          <p:nvSpPr>
            <p:cNvPr id="232" name=""/>
            <p:cNvSpPr/>
            <p:nvPr/>
          </p:nvSpPr>
          <p:spPr>
            <a:xfrm>
              <a:off x="757368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5148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56400" y="3591000"/>
            <a:ext cx="366480" cy="428760"/>
            <a:chOff x="7556400" y="3591000"/>
            <a:chExt cx="366480" cy="428760"/>
          </a:xfrm>
        </p:grpSpPr>
        <p:sp>
          <p:nvSpPr>
            <p:cNvPr id="235" name=""/>
            <p:cNvSpPr/>
            <p:nvPr/>
          </p:nvSpPr>
          <p:spPr>
            <a:xfrm>
              <a:off x="78786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564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61320" y="3592440"/>
            <a:ext cx="366480" cy="428760"/>
            <a:chOff x="7861320" y="3592440"/>
            <a:chExt cx="366480" cy="428760"/>
          </a:xfrm>
        </p:grpSpPr>
        <p:sp>
          <p:nvSpPr>
            <p:cNvPr id="238" name=""/>
            <p:cNvSpPr/>
            <p:nvPr/>
          </p:nvSpPr>
          <p:spPr>
            <a:xfrm>
              <a:off x="8183520" y="35924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61320" y="37447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8165880" y="3594240"/>
            <a:ext cx="366480" cy="428760"/>
            <a:chOff x="8165880" y="3594240"/>
            <a:chExt cx="366480" cy="428760"/>
          </a:xfrm>
        </p:grpSpPr>
        <p:sp>
          <p:nvSpPr>
            <p:cNvPr id="241" name=""/>
            <p:cNvSpPr/>
            <p:nvPr/>
          </p:nvSpPr>
          <p:spPr>
            <a:xfrm>
              <a:off x="8488080" y="3594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65880" y="374652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8470800" y="3591000"/>
            <a:ext cx="366480" cy="428760"/>
            <a:chOff x="8470800" y="3591000"/>
            <a:chExt cx="366480" cy="428760"/>
          </a:xfrm>
        </p:grpSpPr>
        <p:sp>
          <p:nvSpPr>
            <p:cNvPr id="244" name=""/>
            <p:cNvSpPr/>
            <p:nvPr/>
          </p:nvSpPr>
          <p:spPr>
            <a:xfrm>
              <a:off x="8793000" y="3591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70800" y="374328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09680" y="2720880"/>
            <a:ext cx="15242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ull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720880"/>
            <a:ext cx="23637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Agreement &amp; Work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720880"/>
            <a:ext cx="156204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(Short-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2724120"/>
            <a:ext cx="28954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Technical, Annual &amp;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7783560" y="3414600"/>
            <a:ext cx="1009440" cy="176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6640" y="3419640"/>
            <a:ext cx="38736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724520" y="3409560"/>
            <a:ext cx="43956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23000" y="3409560"/>
            <a:ext cx="1001880" cy="181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76092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63528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37180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14040" y="3760920"/>
            <a:ext cx="54752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3946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2720" y="3946680"/>
            <a:ext cx="13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al Cover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3946680"/>
            <a:ext cx="19810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D approval 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5720" y="3946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ion Le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59120" y="4626000"/>
            <a:ext cx="6055920" cy="380880"/>
            <a:chOff x="2859120" y="4626000"/>
            <a:chExt cx="6055920" cy="380880"/>
          </a:xfrm>
        </p:grpSpPr>
        <p:sp>
          <p:nvSpPr>
            <p:cNvPr id="264" name=""/>
            <p:cNvSpPr/>
            <p:nvPr/>
          </p:nvSpPr>
          <p:spPr>
            <a:xfrm>
              <a:off x="2859120" y="4626000"/>
              <a:ext cx="1561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, 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2200" y="4626000"/>
              <a:ext cx="176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 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52120" y="4626000"/>
              <a:ext cx="1762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ject Coordinators Project  Accountant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ocurem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ED, 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5715000" y="37461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3459240"/>
            <a:ext cx="1562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378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9440" y="20350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600" y="5059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D86-2AD1-46CE-ACED-995B0082722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8F4BB-1B3E-4FA7-A57B-BD19E1FD6F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00160" y="3381480"/>
            <a:ext cx="9432720" cy="24238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160" y="1628640"/>
            <a:ext cx="9432720" cy="1756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9440" y="16286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1600" y="5276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CU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Project Life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2924280"/>
            <a:ext cx="0" cy="581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898720"/>
            <a:ext cx="0" cy="506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67080" y="2209680"/>
            <a:ext cx="167652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3276720"/>
            <a:ext cx="0" cy="1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23856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6840" y="3402000"/>
            <a:ext cx="5522760" cy="3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181480" y="3401640"/>
            <a:ext cx="0" cy="17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63760" y="2971800"/>
            <a:ext cx="1560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ov’t. Conc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323208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09680"/>
            <a:ext cx="152388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ve-Pag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898720"/>
            <a:ext cx="0" cy="447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7080" y="5105520"/>
            <a:ext cx="176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 Procure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16200000">
            <a:off x="3602160" y="3050640"/>
            <a:ext cx="75960" cy="984600"/>
          </a:xfrm>
          <a:custGeom>
            <a:avLst/>
            <a:gdLst>
              <a:gd name="textAreaLeft" fmla="*/ 48600 w 75960"/>
              <a:gd name="textAreaRight" fmla="*/ 76320 w 75960"/>
              <a:gd name="textAreaTop" fmla="*/ 25560 h 984600"/>
              <a:gd name="textAreaBottom" fmla="*/ 959040 h 98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21040" y="3543480"/>
            <a:ext cx="156060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45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96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91120" y="324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45040" y="3235320"/>
            <a:ext cx="366480" cy="428760"/>
            <a:chOff x="5945040" y="3235320"/>
            <a:chExt cx="366480" cy="428760"/>
          </a:xfrm>
        </p:grpSpPr>
        <p:sp>
          <p:nvSpPr>
            <p:cNvPr id="295" name=""/>
            <p:cNvSpPr/>
            <p:nvPr/>
          </p:nvSpPr>
          <p:spPr>
            <a:xfrm>
              <a:off x="626724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504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232320" y="3233880"/>
            <a:ext cx="366480" cy="428760"/>
            <a:chOff x="6232320" y="3233880"/>
            <a:chExt cx="366480" cy="428760"/>
          </a:xfrm>
        </p:grpSpPr>
        <p:sp>
          <p:nvSpPr>
            <p:cNvPr id="298" name=""/>
            <p:cNvSpPr/>
            <p:nvPr/>
          </p:nvSpPr>
          <p:spPr>
            <a:xfrm>
              <a:off x="655452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232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537240" y="3232080"/>
            <a:ext cx="366480" cy="428760"/>
            <a:chOff x="6537240" y="3232080"/>
            <a:chExt cx="366480" cy="428760"/>
          </a:xfrm>
        </p:grpSpPr>
        <p:sp>
          <p:nvSpPr>
            <p:cNvPr id="301" name=""/>
            <p:cNvSpPr/>
            <p:nvPr/>
          </p:nvSpPr>
          <p:spPr>
            <a:xfrm>
              <a:off x="685944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24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842880" y="3233880"/>
            <a:ext cx="366480" cy="428760"/>
            <a:chOff x="6842880" y="3233880"/>
            <a:chExt cx="366480" cy="428760"/>
          </a:xfrm>
        </p:grpSpPr>
        <p:sp>
          <p:nvSpPr>
            <p:cNvPr id="304" name=""/>
            <p:cNvSpPr/>
            <p:nvPr/>
          </p:nvSpPr>
          <p:spPr>
            <a:xfrm>
              <a:off x="716436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288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146720" y="3232080"/>
            <a:ext cx="366480" cy="428760"/>
            <a:chOff x="7146720" y="3232080"/>
            <a:chExt cx="366480" cy="428760"/>
          </a:xfrm>
        </p:grpSpPr>
        <p:sp>
          <p:nvSpPr>
            <p:cNvPr id="307" name=""/>
            <p:cNvSpPr/>
            <p:nvPr/>
          </p:nvSpPr>
          <p:spPr>
            <a:xfrm>
              <a:off x="7468920" y="3232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6720" y="33843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451640" y="3233880"/>
            <a:ext cx="366480" cy="428760"/>
            <a:chOff x="7451640" y="3233880"/>
            <a:chExt cx="366480" cy="428760"/>
          </a:xfrm>
        </p:grpSpPr>
        <p:sp>
          <p:nvSpPr>
            <p:cNvPr id="310" name=""/>
            <p:cNvSpPr/>
            <p:nvPr/>
          </p:nvSpPr>
          <p:spPr>
            <a:xfrm>
              <a:off x="7773840" y="3233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51640" y="338616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756200" y="3235320"/>
            <a:ext cx="366480" cy="428760"/>
            <a:chOff x="7756200" y="3235320"/>
            <a:chExt cx="366480" cy="428760"/>
          </a:xfrm>
        </p:grpSpPr>
        <p:sp>
          <p:nvSpPr>
            <p:cNvPr id="313" name=""/>
            <p:cNvSpPr/>
            <p:nvPr/>
          </p:nvSpPr>
          <p:spPr>
            <a:xfrm>
              <a:off x="8078400" y="32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6200" y="3387600"/>
              <a:ext cx="36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83680" y="3105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62200" y="3384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43760" y="2209680"/>
            <a:ext cx="2819160" cy="6890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elive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erly, Fina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7316640" y="2898720"/>
            <a:ext cx="106704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905520" y="2898720"/>
            <a:ext cx="4111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316280" y="2898360"/>
            <a:ext cx="438120" cy="351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313320" y="2898720"/>
            <a:ext cx="1003320" cy="33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91120" y="3402000"/>
            <a:ext cx="2743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3728880"/>
            <a:ext cx="19814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4680" y="3852720"/>
            <a:ext cx="143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ing Parties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ight of Refu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37180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Vis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ers of Re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42080" y="5105520"/>
            <a:ext cx="176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 Account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D, 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991720" y="228600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772480" y="2433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15400" y="2590920"/>
            <a:ext cx="85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834400" y="2752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834400" y="2461680"/>
            <a:ext cx="32868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749840"/>
            <a:ext cx="4724280" cy="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4749840"/>
            <a:ext cx="4591080" cy="0"/>
          </a:xfrm>
          <a:prstGeom prst="line">
            <a:avLst/>
          </a:prstGeom>
          <a:ln w="19044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680" y="4597560"/>
            <a:ext cx="2349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artnership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90720" y="34286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4938840"/>
            <a:ext cx="979200" cy="0"/>
          </a:xfrm>
          <a:prstGeom prst="line">
            <a:avLst/>
          </a:prstGeom>
          <a:ln w="190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95880" y="4938840"/>
            <a:ext cx="3187800" cy="0"/>
          </a:xfrm>
          <a:prstGeom prst="line">
            <a:avLst/>
          </a:prstGeom>
          <a:ln w="190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3680" y="4800600"/>
            <a:ext cx="2172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1120" y="44197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4944960"/>
            <a:ext cx="3200400" cy="0"/>
          </a:xfrm>
          <a:prstGeom prst="line">
            <a:avLst/>
          </a:prstGeom>
          <a:ln w="190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195-B2BB-4CCE-9045-9CB207B4DBC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93152-A871-483A-AADA-060F5EEDBE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CU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seeks to help integrate former weapons scientists into the broader international scient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*must* invite Western colleagues to take an interest in their project’s progr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“Collaborator” is *required* for all regular projec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 to conferences &amp; to meet Western colleagues is encour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359-CE70-40FC-B6A0-02B8C8C3C9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014A5-E28A-405D-8864-FDAB09CF1D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“Collaborator”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or technical expert from the territory of the Financing Party wh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s as an un-paid advisor in a regular STC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s, in writing, to assist STCU grant recip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involvement may vary; minimum expec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project work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technical merits and feasibility of that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hat evaluation with the scientific team and financing Par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regularly with the project team for lifetime of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affiliation may 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r private-sector may be more useful to scientis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ademic or government lab affiliation, so far, more typ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2D8-1EF9-4B3E-9989-42E71BA2A0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B1D13-977A-4D82-ACE3-6A4097BB45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Prior to funding dec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rovide recommendations during the development of the draft project proposal and work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Review and assess work plan subsequent to HGC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   Consi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Quality of science propos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Feasibility of approach and time li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Adequacy of equipment/material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uring consideration of the project proposal, </a:t>
            </a:r>
            <a:r>
              <a:rPr b="1" lang="en" sz="2000" spc="-1" strike="noStrike">
                <a:solidFill>
                  <a:srgbClr val="3333cc"/>
                </a:solidFill>
                <a:latin typeface="Arial"/>
              </a:rPr>
              <a:t>communicate to the project team and to the financing Parties the results of this assessment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,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of the work pl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is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reasons)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imited approval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 (along with a description of specific concer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509-A714-4183-9AE2-7B388296970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3C826-4E21-40F3-A47C-1D865C7D4A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Project fu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unicate regularly by e-mail with CIS instit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view all quarterly project repor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project team adjust technical and commercial language and terminology to an accepted level for a North American or European reader/revie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technical information or assistance, including mutual review of technical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ide guidance or recommend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ppropriate, to enable attainment of project goals as set out in the work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awareness of developments in applied science and technology that relate to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862-D957-425E-85E0-531AE03578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F1E4E-7E89-47C7-BA81-7166DCFC2D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3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cruit other foreign collaborators to assist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mmunicate results of related on-going studies in West, particularly at collaborator’s labora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Share scarce materials, samples, and/or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project team select cost-advantageous research tools, instrumentation, and necessary chemic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or parallel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interpret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erify results using independent methods and/or 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E1E-E42B-412B-8C49-166C5E8485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8AB5E-F6A1-4CBD-AC2D-12CDD160BB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llaborators do (4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As Project progr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Conduct joint seminars, workshops, and cons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ost scientists from project team and/or allow use of facilities at collaborator’s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Visit STCU scientists’ project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(recommended: at least once, but not more than three times over lifetime of STCU projec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Review and edit draft final report, to ensure it clearly reflects results of the research condu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ssist with publication and/or dissemin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Help with commercializ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68880" y="637524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inimum expectations in b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4E5-9244-4F2B-B542-19BED43D88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A31D4-83F8-4A02-A19A-7A439283C6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STC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m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where does the help c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Support We Pro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gula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artner projec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does the STC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pick a path forw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8E2-423A-4C0A-AB86-273B3CB130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10A81-62FD-4DC5-BD97-813685F5F2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Collabo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ethods have worked for other STCU scienti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Internet for those doing science in same fie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correspondence with authors of publications and conference repor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while attending international conferences and exhibi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 with STCU Partnership Group, Project Coordinators, and other staff members experienced in establishing cooperation with international instit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5640" y="5925960"/>
            <a:ext cx="7736760" cy="4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how one investigates possible sources of fu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BD0-2AD2-43C5-A6F5-9A035E5C570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669E1-26AB-4ED2-88F3-E8DAF28C9A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ing a Potential Collabo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STCU scientists recomm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briefly, your experience in the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the collaborator might find interesting about your proposed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if he knows anyone who might be interested in serving as an unpaid advisor to your project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says, ‘I might be interested…”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ways that collaborators typically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troductory material on STC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ore detailed project information (with a non-disclosure agreement in place, if project is commercially-sen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0BC-8238-4FE4-84F1-2A1A4BA548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4AE9D-8845-428C-8819-6B8599B9A4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stern Collaborat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with highly-skilled scientists and engineers from Georgia, Uzbekistan and Azerbaija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in experiments at unique installations and facil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ated results arising from STCU Projects, (with protection of the Intellectual Property Rights of project participa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focus and efficiency of Research and Development activity through information exchange and consultat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take in commercialization of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4F3-FE1B-4BCA-AE6E-AE465FD2279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1CDB2-8349-40EE-81B3-EE0126B5A8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91044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CU Project Participa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in the design and execution of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 that projects do not duplicate existing efforts in the same field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in identifying appropriate sources of special materials and equipment to be used in project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quisition of new skills, experience and contacts with related research centers in other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ance on how best to internationally disseminate the results of research and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-term cooperation in science and technology from experience gained during project imple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E0E-A3E8-49EC-BB36-2E5152D3311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EA6DE-2066-44AD-9B03-F07F772C60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ters of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ter of Support 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s an relatively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 expression of approval by a Western scientist reg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 scientist, project team or institut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direction of current or proposed researc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positive past experiences working with the team;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the value of proposed researc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A Letter of Support differs from a Pledge of Collaboration by virtue of two el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tain a specific assessment of the strength of the current proposal and/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t does not convey a clear commitment to future participation or engagement in that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4330-5CD9-4057-9558-6C62BD36FF8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55F70-2083-4ABD-B207-34A2E26F9B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CU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CU policy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One Letter of Collaboration or two Letters of Support before a regular project proposal can leave STCU for review by the Financing Pa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If a project is selected for funding, the project team must find a Collaborator from the territory of the funding Party before the project agreement can be fin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original Letter of Collaboration was from a scientist in the EU, and the project is funded by the U.S., they will need to locate a U.S.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f the project had only Letters of Support, they will now need to find a Collabo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8520" y="6203880"/>
            <a:ext cx="970596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nded STCU projec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Partner or a Collabo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953-A806-45AF-A62A-8AA880BB861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E30F4-C9FC-4500-8A45-19B975834B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705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CU offers scientists three paths to fun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Projects funded from a shared po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Governm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 Projects funded by commerci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paths share comm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Government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CU Projec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ment with Western scientific or technical personnel, either as Partners (donors) or as Collaborators (volunteer advis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653-E473-444E-867B-8607BD6E010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FD579-AC74-41B6-B14C-EFFA6E7382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rolif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spread of Weapons of Mass Destruction (WMD) expertise by suppor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ian research and development activities of Azeri, Georgian, Moldovan, Ukrainian and Uzbek scientists and engineers formerly involved with WM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mean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tainable Re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for former WMD scientists and engineers to develop sustainable civilian research work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4160" y="4869000"/>
            <a:ext cx="72738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eligible for STCU funding, at least 30%, and preferably 50%, of the members of a proposed project team must be former weapons scientists.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49040" y="6467400"/>
            <a:ext cx="59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e subsequent slide on ‘Who may apply?’ for suggestions on meeting this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377-C06D-48A4-A287-12AD3522AA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E6445-732D-4F66-9BD6-ECE6237B03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45680" y="4749840"/>
            <a:ext cx="428040" cy="725040"/>
            <a:chOff x="8545680" y="4749840"/>
            <a:chExt cx="428040" cy="725040"/>
          </a:xfrm>
        </p:grpSpPr>
        <p:sp>
          <p:nvSpPr>
            <p:cNvPr id="66" name=""/>
            <p:cNvSpPr/>
            <p:nvPr/>
          </p:nvSpPr>
          <p:spPr>
            <a:xfrm>
              <a:off x="8545680" y="4749840"/>
              <a:ext cx="194400" cy="725040"/>
            </a:xfrm>
            <a:prstGeom prst="downArrow">
              <a:avLst>
                <a:gd name="adj1" fmla="val 50000"/>
                <a:gd name="adj2" fmla="val 932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79680" y="4749840"/>
              <a:ext cx="194040" cy="725040"/>
            </a:xfrm>
            <a:prstGeom prst="downArrow">
              <a:avLst>
                <a:gd name="adj1" fmla="val 50000"/>
                <a:gd name="adj2" fmla="val 93414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478240" y="6391440"/>
            <a:ext cx="1357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ncing &amp; Recipient P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887560" y="4749840"/>
            <a:ext cx="428400" cy="736200"/>
            <a:chOff x="2887560" y="4749840"/>
            <a:chExt cx="428400" cy="736200"/>
          </a:xfrm>
        </p:grpSpPr>
        <p:sp>
          <p:nvSpPr>
            <p:cNvPr id="71" name=""/>
            <p:cNvSpPr/>
            <p:nvPr/>
          </p:nvSpPr>
          <p:spPr>
            <a:xfrm>
              <a:off x="2887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1560" y="474984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88000" y="2462040"/>
            <a:ext cx="461880" cy="1346400"/>
          </a:xfrm>
          <a:prstGeom prst="downArrow">
            <a:avLst>
              <a:gd name="adj1" fmla="val 50000"/>
              <a:gd name="adj2" fmla="val 72876"/>
            </a:avLst>
          </a:prstGeom>
          <a:gradFill rotWithShape="0">
            <a:gsLst>
              <a:gs pos="0">
                <a:srgbClr val="8194f1"/>
              </a:gs>
              <a:gs pos="100000">
                <a:srgbClr val="8194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42000" y="2571840"/>
            <a:ext cx="462240" cy="1233360"/>
          </a:xfrm>
          <a:prstGeom prst="downArrow">
            <a:avLst>
              <a:gd name="adj1" fmla="val 50000"/>
              <a:gd name="adj2" fmla="val 66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90720" y="2579760"/>
            <a:ext cx="463680" cy="1230120"/>
          </a:xfrm>
          <a:prstGeom prst="downArrow">
            <a:avLst>
              <a:gd name="adj1" fmla="val 50000"/>
              <a:gd name="adj2" fmla="val 66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35840" y="2209680"/>
            <a:ext cx="1520640" cy="990720"/>
            <a:chOff x="6135840" y="2209680"/>
            <a:chExt cx="1520640" cy="990720"/>
          </a:xfrm>
        </p:grpSpPr>
        <p:sp>
          <p:nvSpPr>
            <p:cNvPr id="77" name=""/>
            <p:cNvSpPr/>
            <p:nvPr/>
          </p:nvSpPr>
          <p:spPr>
            <a:xfrm flipV="1">
              <a:off x="6135840" y="22096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6600" y="2382840"/>
              <a:ext cx="121536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1800" y="3801960"/>
            <a:ext cx="693720" cy="9432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270160" y="2197080"/>
            <a:ext cx="1520640" cy="990720"/>
            <a:chOff x="2270160" y="2197080"/>
            <a:chExt cx="1520640" cy="990720"/>
          </a:xfrm>
        </p:grpSpPr>
        <p:sp>
          <p:nvSpPr>
            <p:cNvPr id="81" name=""/>
            <p:cNvSpPr/>
            <p:nvPr/>
          </p:nvSpPr>
          <p:spPr>
            <a:xfrm flipV="1">
              <a:off x="2270160" y="2197080"/>
              <a:ext cx="152064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35760" y="2311560"/>
              <a:ext cx="1215000" cy="69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7920" y="6426360"/>
            <a:ext cx="1768320" cy="31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59160" y="1874880"/>
            <a:ext cx="1514520" cy="83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153120" y="5478480"/>
            <a:ext cx="1513080" cy="83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002440" y="5481720"/>
            <a:ext cx="1513080" cy="83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1440" y="5481720"/>
            <a:ext cx="1792440" cy="830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2880" y="3813120"/>
            <a:ext cx="9344160" cy="936720"/>
          </a:xfrm>
          <a:prstGeom prst="roundRect">
            <a:avLst>
              <a:gd name="adj" fmla="val 16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Arial Narrow"/>
              </a:rPr>
              <a:t>Science &amp; Technology Center in Ukrain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696000" y="4751280"/>
            <a:ext cx="428400" cy="726840"/>
            <a:chOff x="6696000" y="4751280"/>
            <a:chExt cx="428400" cy="726840"/>
          </a:xfrm>
        </p:grpSpPr>
        <p:sp>
          <p:nvSpPr>
            <p:cNvPr id="90" name=""/>
            <p:cNvSpPr/>
            <p:nvPr/>
          </p:nvSpPr>
          <p:spPr>
            <a:xfrm>
              <a:off x="6696000" y="4751280"/>
              <a:ext cx="194760" cy="726840"/>
            </a:xfrm>
            <a:prstGeom prst="downArrow">
              <a:avLst>
                <a:gd name="adj1" fmla="val 50000"/>
                <a:gd name="adj2" fmla="val 932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0000" y="4751280"/>
              <a:ext cx="194400" cy="726840"/>
            </a:xfrm>
            <a:prstGeom prst="downArrow">
              <a:avLst>
                <a:gd name="adj1" fmla="val 50000"/>
                <a:gd name="adj2" fmla="val 93472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55800" y="4751280"/>
            <a:ext cx="426600" cy="728280"/>
            <a:chOff x="955800" y="4751280"/>
            <a:chExt cx="426600" cy="728280"/>
          </a:xfrm>
        </p:grpSpPr>
        <p:sp>
          <p:nvSpPr>
            <p:cNvPr id="93" name=""/>
            <p:cNvSpPr/>
            <p:nvPr/>
          </p:nvSpPr>
          <p:spPr>
            <a:xfrm>
              <a:off x="955800" y="4751280"/>
              <a:ext cx="193680" cy="728280"/>
            </a:xfrm>
            <a:prstGeom prst="downArrow">
              <a:avLst>
                <a:gd name="adj1" fmla="val 50000"/>
                <a:gd name="adj2" fmla="val 94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9080" y="4751280"/>
              <a:ext cx="193320" cy="728280"/>
            </a:xfrm>
            <a:prstGeom prst="downArrow">
              <a:avLst>
                <a:gd name="adj1" fmla="val 50000"/>
                <a:gd name="adj2" fmla="val 94181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620200" y="2467080"/>
            <a:ext cx="461880" cy="1346040"/>
          </a:xfrm>
          <a:prstGeom prst="downArrow">
            <a:avLst>
              <a:gd name="adj1" fmla="val 50000"/>
              <a:gd name="adj2" fmla="val 72857"/>
            </a:avLst>
          </a:prstGeom>
          <a:gradFill rotWithShape="0">
            <a:gsLst>
              <a:gs pos="0">
                <a:srgbClr val="8194f1"/>
              </a:gs>
              <a:gs pos="100000">
                <a:srgbClr val="7486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0760" y="2476440"/>
            <a:ext cx="463680" cy="1346400"/>
          </a:xfrm>
          <a:prstGeom prst="downArrow">
            <a:avLst>
              <a:gd name="adj1" fmla="val 50000"/>
              <a:gd name="adj2" fmla="val 72593"/>
            </a:avLst>
          </a:prstGeom>
          <a:gradFill rotWithShape="0">
            <a:gsLst>
              <a:gs pos="0">
                <a:srgbClr val="8194f1"/>
              </a:gs>
              <a:gs pos="100000">
                <a:srgbClr val="7c8e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17600" y="1862280"/>
            <a:ext cx="1514520" cy="83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8089920" y="1893960"/>
            <a:ext cx="1504800" cy="83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95960" y="6389640"/>
            <a:ext cx="14940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37360" y="6404040"/>
            <a:ext cx="14353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681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64560" y="2708280"/>
            <a:ext cx="176832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25680" y="5486040"/>
            <a:ext cx="1338120" cy="832320"/>
            <a:chOff x="2425680" y="5486040"/>
            <a:chExt cx="1338120" cy="832320"/>
          </a:xfrm>
        </p:grpSpPr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2425680" y="5486400"/>
              <a:ext cx="13381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flipV="1">
              <a:off x="3763800" y="548604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71440" y="5489640"/>
            <a:ext cx="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1440" y="631332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4122720" y="5495760"/>
            <a:ext cx="1655640" cy="8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232160" y="6381720"/>
            <a:ext cx="1357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40120" y="4751280"/>
            <a:ext cx="428400" cy="736200"/>
            <a:chOff x="4740120" y="4751280"/>
            <a:chExt cx="428400" cy="736200"/>
          </a:xfrm>
        </p:grpSpPr>
        <p:sp>
          <p:nvSpPr>
            <p:cNvPr id="112" name=""/>
            <p:cNvSpPr/>
            <p:nvPr/>
          </p:nvSpPr>
          <p:spPr>
            <a:xfrm>
              <a:off x="4740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74120" y="4751280"/>
              <a:ext cx="194400" cy="736200"/>
            </a:xfrm>
            <a:prstGeom prst="downArrow">
              <a:avLst>
                <a:gd name="adj1" fmla="val 50000"/>
                <a:gd name="adj2" fmla="val 94676"/>
              </a:avLst>
            </a:prstGeom>
            <a:solidFill>
              <a:srgbClr val="8194f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1FD-3003-4340-B441-5DD1E5C8F2A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74945-D7F9-4CE5-863E-1D0C0AD265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916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CU Recipient Par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mit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n institute, university, design office, state enterprise, corporation, firm, fund, foundation, or other legally-registered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rganizations, in one or more STCU recipient countries, may submit a ‘joint proposal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tea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velop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rant recipients must be citizens of an STCU recipient count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30%, preferably 50%, of the team must formerly have been involved with weapons of mass destruction and their means of deli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scientists may participate;  they can even form and lead their own teams, so long as the resultant team meets STCU guide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Propos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small groups of scientists to compete effectively, by allowing them to add resources from other organizations to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numbers of former weapons scientists to meet STCU guidelin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ts with skills or abilities critical to achieve project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C2B-98F5-4026-91FD-AC110813FA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10747-7CC5-4E23-BF7F-B9D5BA9745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Collaborative Scientific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governments of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jects are funded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-sect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in the territories of the Financing Pa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4005360"/>
            <a:ext cx="3816360" cy="1633320"/>
          </a:xfrm>
          <a:prstGeom prst="hexagon">
            <a:avLst>
              <a:gd name="adj" fmla="val 58414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5025960"/>
            <a:ext cx="3529080" cy="1513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Governmental Partner 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4910040"/>
            <a:ext cx="3025800" cy="147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69E-37A1-40BC-9AA4-5A244B1AD8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8E79F-AA74-48D8-82CE-5D52E1AEC2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types of STCU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for funding based on multiple considerations, which may include technical merit, contribution to non-proliferation aims, policy priorities, potential for integration of scientists into global science community, commercial potential or prospect for sustain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competes with all other regular project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ots of money, separate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Government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mpetition; just need to locate willing partner to finance project &amp; receive STCU appro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4560" y="4149720"/>
            <a:ext cx="1228680" cy="525600"/>
          </a:xfrm>
          <a:prstGeom prst="hexagon">
            <a:avLst>
              <a:gd name="adj" fmla="val 58442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067360"/>
            <a:ext cx="1219320" cy="52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73600" y="1557360"/>
            <a:ext cx="86364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38F-E482-458C-969E-6FF5D2ED43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9D588-2ED6-4582-A087-A0127B499B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CU Supplemental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workshops and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making services for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missions and trad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upgr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5477040"/>
            <a:ext cx="7845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r Weapons Scientists who have not received STCU project funding may participate in many of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2A1-D1AE-4201-87B3-400279E420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CAA1D-42F8-45A5-B231-B66CC33878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0:44:12Z</dcterms:created>
  <dc:creator>Chris Stuebner</dc:creator>
  <dc:description/>
  <dc:language>en-US</dc:language>
  <cp:lastModifiedBy>Chris Stuebner</cp:lastModifiedBy>
  <dcterms:modified xsi:type="dcterms:W3CDTF">2005-03-07T12:18:58Z</dcterms:modified>
  <cp:revision>39</cp:revision>
  <dc:subject/>
  <dc:title>Grant-Writing Workshop:  Competing More Effectively</dc:title>
</cp:coreProperties>
</file>