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C52B-76B7-42B2-BAF2-90482327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AC66-9AAC-40BA-A478-01D4BFF4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0ABC-260E-4997-A684-5B2580F7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0CA-D864-4F2E-AD6E-67045C56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424-AF06-4F5D-8419-9770161E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03B-1A74-4E77-98D1-03095E0D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EE4-88CA-4123-8919-C0E8E27A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937B-8E5A-4C00-BA99-1B4E3CE6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21F5-C574-4702-8EA8-BD4C3433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E669-D2B0-47FA-B59C-2F78A67D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5D7-0CDC-4C19-BCB7-7C5F28F5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75FD-FC09-4EE8-A910-62A5A04C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TC/STC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8ECF-F305-43E9-8183-CC4EFE234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реимущества тщательного ведения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аучного журнал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дробный научный журнал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является лучшим доказательством проделанной Вами работы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н обеспечивает Вам быстрый доступ к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экспериментальным концепциям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оектам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данным 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их интерпретаци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ся важная информация хранится в одном и том же мест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Журнал – незаменимый источник информаци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 подаче заявок на патенты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Образец перечня рисунков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таблиц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еречень рисунков и таблиц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Таблиц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  “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звани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”    14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Таблиц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2  “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звани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”    1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исуно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 “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звани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”       9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исуно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6 “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звани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”    99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Таблиц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22  “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звани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”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1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исуно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X “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звани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”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6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Типичная страница основной части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ата записи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ата проведения эксперимент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ли записи/рассчёта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Кто внёс запись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Кто проводил эксперимент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Концепци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тношение к общему проекту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Гипотеза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Схема эксперимента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том числе оборудовани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Зафиксированные данные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нтерпретация данных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ыводы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следующий (-ие) логический (-ие) шаг (-и)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Подпись внесшего запись лиц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 подпись свидетеля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авила фиксирования данных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ля проведения большинства экспериментов требуется больше, чем один ден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Записывайте только то, что Вы фактически получили за этот ден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анные также можно добавлять впоследствии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ука – это проверка гипотез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се Ваши эксперименты ставятс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для проверки Ваших же гипотез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Часто Вы будет прибегать к одной и той же процедуре эксперимент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ы должны описать её достаточно подробно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первой же записи в Вашем журнале для того, чтобы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её можно было воспроизвести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опираясь только на журнальную запись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авила фиксирования данных (продолжение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сли сбор и интерпретация данных проводится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через день или более после начала эксперимент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ы должны начать новую запис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вяжите её с предыдущей записью, сделав отметку наверху страницы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“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одолжается со стр.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XX”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оводя интерпретацию данных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збегайте ненужных домысл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аши интерпретация и выводы должны быть сделаны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только в контексте данной гипотезы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бъясните, каким образом полученные Вами результаты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вели к возникновению новых идей о проведении эксперимент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ли новых гипотез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Записывая схему эксперимента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еобходимого для проверки этих новых идей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вяжите её с предыдущей записью, сделав отметку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ксперимент основан на тезультатах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писанных на стр.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XX”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разец страницы основной части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3733920" cy="5181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азвание эксперимента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ата эксперимента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Дата записи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ем проведён эксперимент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________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ем сделана запись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:  _____________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онцепция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дея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и её отношение к проекту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xxxxxxxxxxxxxxxxxxxxxxxxxxxxxxx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xxxxxxxxxxxxxxxxxxxxxxxxxxxxxxx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Гипотеза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xxxxxxxxxxxxxxxxxxxxx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xxxxxxxxxxxxxxxxxxxxxxxxxxxxxxxxxxxxxx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делавшего запись лица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видетеля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разец страницы основной части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продолжение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X+1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Схема и параметры эксперимента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XXXXXXX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XXXXXXX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XXXXXXX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езультаты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Таблиц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исунок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ли необработанные данные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если таковые имеются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нтерпретаци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 xxxxxxxxxx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делавшего запись лица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видетеля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разец страницы основной части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продолжение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X+2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овые идеи и будущие эксперименты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xxxxxxxxxxxxxxxxxxxxx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xxxxxxxxxxxxxxxxxxxxx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делавшего запись лица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видетеля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разец будущей страницы основной части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Продолжается со стр.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xx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Результаты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:  </a:t>
            </a: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Внести в форме таблицы, рисунка и т.п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Выводы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Narrow"/>
              </a:rPr>
              <a:t>Новые идеи или эксперименты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{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Примечание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Следуйте всем прочим правилам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 Narrow"/>
              </a:rPr>
              <a:t>для страниц основной части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делавшего запись лица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Подпись свидетеля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амятка о внесении записей в журнал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носите записи в Ваш лабораторный журнал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АЖДЫЙ ДЕН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Каждая страница должна быть подписана и засвидетельствована ещё одним исследователем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желательно не Вашим прямым подчинённым или начальником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Чем больше подробностей – тем лучш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икогда не пропускайте страниц, чтобы оставить место для данных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носите информацию в хронологическом порядк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Виды указателей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казатель экспериментальных процедур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казатель основных подпроектов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казатель ключевых данных и выводов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Характерные особенности надёжного научного журнал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Журнал должен быть в переплёте;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раницы из него не должны легко изыматься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Бумага должна быть бескислотной,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что продлит жизнь журнала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раницы должны быть пронумерованы типографским способом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Записи должны вестись только на одной стороне листа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а соседнюю страницу впоследствии могут добавляться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цифры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аблицы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или комментари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Указатели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казатель экспериментальных процедур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-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тот указатель переадресует Вас к подробному описанию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аждого из предусмотренных Вами основных методов эксперимент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н позволит быстро определить суть метод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казатель подпроектов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-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ы можете осуществлять ряд проект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 рамках одного главного проект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тот указатель позволит Вам быстро найт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писания тех серий экспериментов и данных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оторые естественным образом продолжают друг друг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казатель ключевых данных и выводов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-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тот указатель позволит Вам найт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те критически важные единицы информации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оторые определяют направление Вашего исследования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разец страницы указателя экспериментальных методов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Z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Указатель эксп. методов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етод получени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______ 16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етод получени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______ 33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етод получени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______ 41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Метод получения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______18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бразец указателя подпроектов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Z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Указатель подпроектов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анные об очистке белк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фермент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7-9, 21-22, 33-37, 182-185, 190-19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анные об эффективности воздушной турбины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0-14, 44-47, 55-60, 91-99, 155-160 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бразец указателя основных концепций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Z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Указатель основных концепций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и открытий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ажнейший элемент повышения эффективности клетк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совершенствование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методик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X            73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ффект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Mg++                             133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ритический порог энерги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145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Когда журнал заканчивается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ообщите руководителю проекта, что Вам нужен новый лабораторный журнал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а титульной странице он/она должен/должна указат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ату закрытия и получения ими журнал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сли старый журнал Вам нужен для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правок при проведении новых эксперимент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ам следует получить его под расписку у руководителя проект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ачните новый журнал согласно приведённым ранее инструкциям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о на титульной странице сделайте надпись «Журнал №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»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ли проставьте другой соответствующий номер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еренесите в новый журнал описание основных методов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значально сделанное в первом журнале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Это избавит Вас от необходимости просматривать предыдущие журналы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чтобы найти описание метод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олезные привычки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есколько последних минут каждого рабочего дня должны быть оставлены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ля внесения записей в журнал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е откладывайте эту задачу на несколько дней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ы забудете важную информацию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сли Вы сделали ошибку при внесении данных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еречеркните её одной чертой так, чтобы перечёркнутую цифру можно было прочест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ервоначальные данные часто оказываются важным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сли их стереть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осстановление может оказаться невозможным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Если после всего требуется введение дополнительной информаци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спользуйте для этого соседнюю страницу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 укажите дату новой запис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аждая подробность может оказаться важной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несмотря на то, насколько незначительной она представляется поначалу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елайте записи о неудачных экспериментах так же тщательно, как и об удачных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последствии эта информация может оказаться ценной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Резюме: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а зачем это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чёные могут полагаться только на те данные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оторые они зафиксировали и могут воспроизвест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лохие привычки при ведении журнал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едут к плохим результатам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Фиксирование хода эксперимент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х данных и результат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а также их интерпретация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толь же важны, как и само проведение эксперимент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Вы лично и руководитель Вашего проекта отвечаете перед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МНТЦ/НТЦУ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 перед финансирующим вас правительством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за полученные средства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дробные журналы чрезвычайно важны для отчётност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 рассмотрении заявок на выдачу патентов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требуется изучение подробной документации о том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огда и как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открытия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оцессы или изобретения происходил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лучение патентов представляется почти невозможным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без предоставления подробных журналов,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дготовленных по описанному здесь стандартному формату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Инструменты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фиксирования информации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Все записи должны делаться нестираемыми чернилами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аблицы, рисунки и фотографии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олжны либо идти по тексту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либо прикрепляться к следующей или соседней странице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бескислотным клеем или липкой лентой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Записи должны делаться разборчиво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Части лабораторного журнал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итульный лист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одержание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Перечень рисунков и таблиц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сновная часть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Указатель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Титульный лист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Название проекта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Раздел проекта,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свещаемый в журнале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Имя и фамилия исследователя, ответственного за ведение журнала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ата первой записи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Дата последней записи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Порядковый номер журнала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бразец титульной страницы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азвание проекта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Раздел проекта, освещаемый в журнале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мя/фамилия исследователя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ата первой записи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XX/XX/XXXX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Дата послед. записи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XX/XX/XXXX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Журнал №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1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из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_____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ставьт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2-3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раницы в начале журнала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для содержания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 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оизведя очередную запис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зафиксируйте её название в содержани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и справа укажит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омер соответствующей страницы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Даже если один журнал служит Вам для записи информации о более чем одной серии экспериментов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едите содержание в хронологическом порядк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е пытайтесь разбивать его на част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 соответствии с мелкими подпроектам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Образец содержания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3200" y="1066680"/>
            <a:ext cx="3733920" cy="5029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одержание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Титульная страница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    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Содержание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       2-5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еречень рисунков и таблиц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6-8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Запис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1                                      9-1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Запис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2                                    11-1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Запис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3                                    13-16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. . . .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оследняя запис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 189-19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Указатель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                192-200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Перечень рисунков и таблиц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аблицы и рисунки –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тличный способ сведения больших количеств информации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оедино на маленьком пространств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 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разу после содержания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оставьт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3-4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страницы для перечня рисунков и таблиц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ри внесении данных в таблицу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зафиксируйте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азвание таблицы в перечне и справа укажите номер страницы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Таким образом Вы создадите удобную систему быстрого получения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нужных данных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08:24:40Z</dcterms:created>
  <dc:creator>VC/VO</dc:creator>
  <dc:description/>
  <dc:language>en-US</dc:language>
  <cp:lastModifiedBy>CBJ</cp:lastModifiedBy>
  <dcterms:modified xsi:type="dcterms:W3CDTF">2003-01-14T07:39:28Z</dcterms:modified>
  <cp:revision>43</cp:revision>
  <dc:subject/>
  <dc:title>The Importance of Scientific Record-Keeping</dc:title>
</cp:coreProperties>
</file>