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27.xml" ContentType="application/vnd.openxmlformats-officedocument.presentationml.comments+xml"/>
  <Override PartName="/ppt/comments/comment3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907588" cy="6858000"/>
  <p:notesSz cx="9925050" cy="6796088"/>
</p:presentation>
</file>

<file path=ppt/commentAuthors.xml><?xml version="1.0" encoding="utf-8"?>
<p:cmAuthorLst xmlns:p="http://schemas.openxmlformats.org/presentationml/2006/main">
  <p:cmAuthor id="0" name="Chris Stuebner" initials="CS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<Relationship Id="rId42" Type="http://schemas.openxmlformats.org/officeDocument/2006/relationships/commentAuthors" Target="commentAuthors.xml"/>
</Relationships>
</file>

<file path=ppt/comments/comment27.xml><?xml version="1.0" encoding="utf-8"?>
<p:cmLst xmlns:p="http://schemas.openxmlformats.org/presentationml/2006/main">
  <p:cm authorId="0" dt="2004-12-28T15:22:26.233000000" idx="1">
    <p:pos x="10" y="10"/>
    <p:text>Note changes:  </p:text>
  </p:cm>
</p:cmLst>
</file>

<file path=ppt/comments/comment33.xml><?xml version="1.0" encoding="utf-8"?>
<p:cmLst xmlns:p="http://schemas.openxmlformats.org/presentationml/2006/main">
  <p:cm authorId="0" dt="2004-12-28T15:34:28.682000000" idx="2">
    <p:pos x="10" y="10"/>
    <p:text>see change in English text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62464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3E2D-9F36-4D05-9C01-7B288F3AF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Supplemental Activ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ent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Gr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for workshops and con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making services for Part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missions and trade sh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upgr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er Weapons Scientists who have not received STCU project funding may participate in many of thes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Make Use of STC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date, 17 Government Partners, includi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2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URATOM Association, Gm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x Planck Institute of Plasmaphys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Department of Energy/Initiatives for Proliferation Prevention (IP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3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Nat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titutes of Health/National Cancer Instit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AF European Office of Aerospace Research and Develop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W Redir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Department 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ricul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vironmental Protection Age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77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CI provided 3 millions for study on the 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sequences of Chernobyl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cident on th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oid cancer and leuk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a de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OARD funding in the amount of 1.9 millions was provided pref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ably for basic research in the area of material science, namely tit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and alu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loys that includes a one half of this funding; the other half supported research in optics, nuclear physics,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cond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rs, healt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SDA approved 14 projects in BIO area with Uzbek institutes and funded up to date 9 of them in the amount of 2.7 millions, There are 4projects at the Institute of Gen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cs and Plant Experimental Biology, 2 projects at the Institute of Bioorg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c Chemistry, 2 projects at the Institute of Z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gy, and 1 at the Cotton Growing Re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ch Institute. The list of the projects will be provid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PP supported 9 projects in the amount of 3.6 millions, the most of these projects are dealing with the pre-commercialization stage aimed at the creation of new employments in Ukraine. The most impressive projects will be present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PA has become STCU Partner recently, in 2003; the first project will be launched soon; it will be devoted to 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agement and Destruction of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solete Pesticides in Pilot Oblasts in Ukraine (Cherkassy and Lviv Oblast).</a:t>
            </a: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IPP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ultip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e coating machine that will be installed at the General Electric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ding and Brazing Technology for Repair of Aircraft and Gas Turbine that will be implemented in Ukraine in cooperation with Pratt&amp;Whittney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w revol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onary Europium Technology for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tizing Food and Medical supplies, which creates a cornerstone for future multimillion industry (Invitation to the Presentation/Workshop is attached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562464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97A0-A4C8-49A2-8D33-A96483AD9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62464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n-Governmental Partners: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Key to Self-Sustaina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ate, over 90 Non-Government Partners, inclu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+S Electron Technologies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лифорния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 Corporation (Delaware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ont (Minnesota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Electric (New York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 (New York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CL Chalk River Laboratories (Ontario, Cana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fina (Paris, Fr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in (Clermont-Ferrand, Fr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77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9.7 million provided by the Non-governmental Partners up to date there is 1.6 million from Canada, 0.6 million from EU, and 7.6 million from the U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Process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-L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ffort required: clearly defined form and application proc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st competition for funding:  many applicants meet selection criter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al Partn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ffort required, to identify program/s and fill out varied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competitors: each program interests smaller group of applicants with focused research and development inte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Governmental Partn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st effort required, to search for potential commercial spon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direct competitor for this source of fu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CU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channels assistance to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, tax-free payments (grants) to researchers’ personal bank accou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s clearance as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urement of equipment and materials free of duties and tax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ching in grant-writing and projec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helps donor countries achieve their policy 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for peaceful, civilian re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government concurrence and security re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nal project management, including technical and financial moni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Recipient Parties’ R&amp;D communities and capabi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TCU Works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must assure donors that monies are well-spent, towards aim of non-proliferation of WMD scientific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project can be audited at donor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grants must be traceable to real scientists, doing real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TCU, salaries are of more importance than equi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roposed purchases must clearly support ability of people to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Management Approa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designates staff to monitor each regular and partner projec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Coordin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Accoun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curement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staff visit each project on a regular, scheduled 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six months of operative commencement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year there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equently if problems encoun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312120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ular Project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312120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Projec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TCU Work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seeks to help integrate former weapons scientists into the broader international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*must* invite Western colleagues to take an interest in their project’s progre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ing a “Collaborator” is *required* for all regular project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o conferences &amp; to meet Western colleagues is encoura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“Collaborator” me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or technical expert from the territory of the Financing Party wh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s as an un-paid advisor in a regular STCU proj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dges, in writing, to assist STCU grant recipi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gree of involvement may vary; minimum expec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the project work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 the technical merits and feasibility of tha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that evaluation with the scientific team and financing Part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e regularly with the project team for lifetime of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 affiliation may v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porate or private-sector may be more useful to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ademic or government lab affiliation, so far, more typ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What Collaborators do 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Prior to funding decis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Provide recommendatios during the development of the draft project proposal and work plan</a:t>
            </a:r>
            <a:r>
              <a:rPr b="0" i="1" lang="en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3333cc"/>
                </a:solidFill>
                <a:latin typeface="Times New Roman"/>
              </a:rPr>
              <a:t>Review and assess work plan subsequent to HGC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.   Conside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Quality of science proposed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Feasibility of approach and time lines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Adequacy of equipment/material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During consideration of the project proposal, </a:t>
            </a:r>
            <a:r>
              <a:rPr b="1" lang="en" sz="1000" spc="-1" strike="noStrike">
                <a:solidFill>
                  <a:srgbClr val="3333cc"/>
                </a:solidFill>
                <a:latin typeface="Times New Roman"/>
              </a:rPr>
              <a:t>communicate to the project team and to the financing Parties the results of this assessment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, expressed a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 of the work plan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000000"/>
                </a:solidFill>
                <a:latin typeface="Times New Roman"/>
              </a:rPr>
              <a:t>Disapproval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 (along with reasons)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000000"/>
                </a:solidFill>
                <a:latin typeface="Times New Roman"/>
              </a:rPr>
              <a:t>Limited approval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 (along with a description of specific concern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nimum expectations in blue ink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Project fun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ommunicate regularly by e-mail with CIS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Review all quarterly project reports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 project team adjust technical and commercial language and terminology to an accepted level for a North American or European reader/revie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hange technical information or assistance, including mutual review of technical repo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rovide guidance or recommendation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 appropriate, to enable attainment of project goals as set out in the work p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awareness of developments in applied science and technology that relate to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 Project progress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Recruit other foreign collaborators to assist t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Communicate results of related on-going studies in West, particularly at collaborator’s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Share scarce materials, samples, and/or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Help project team select cost-advantageous research tools, instrumentation, and necessary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Conduct joint or parallel investig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sist with interpretation of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Verify results using independent methods and/or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 S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Mi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m do we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help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Support We Pro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regular proj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artner proj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does STCU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I pick a path forwar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 Project progress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Conduct joint seminars, workshops, and cons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Host scientists from project team and/or allow use of facilities at collaborator’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Visit STCU scientists’ project s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(recommended: at least once, but not more than three times over lifetime of STCU projec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Review and edit draft final report, to ensure it clearly reflects results of the research conduc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sist with publication and/or dissemination of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Help with commercialization of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ing a Collabo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ethods have worked for other STCU scient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 Internet for those doing science in same fiel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e correspondence with authors of publications and conference repor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while attending international conferences and exhibi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lt with STCU Partnership Group, Project Coordinators, and other staff members experienced in establishing cooperation with international institu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lso how one investigates possible sources of fund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ing a potential collabo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STCU scientists recomme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your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, briefly, your experience in the fie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the collaborator might find interesting about your proposed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if he knows anyone who might be interested in serving as an unpaid advisor to your projec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he says, ‘I might be interested…”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ways that collaborators typically hel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introductory material on STC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more detailed project information (with a non-disclosure agreement in place, if project is commercially-sensitiv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fits of Collab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estern Collaborato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 with highly-skilled scientists and engineers from Georgia, Uzbekistan and Azerbaijan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ion in experiments at unique installations and faciliti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cipated results arising from STCU Projects, (with protection of the Intellectual Property Rights of project particip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focus and efficiency of Research and Development activity through information exchange and consultation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stake in commercialization of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fits of Collab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TCU Project Participa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ment in the design and execution of projec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rance that projects do not duplicate existing efforts in the same field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stance in identifying appropriate sources of special materials and equipment to be used in projec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quisition of new skills, experience and contacts with related research centers in other countri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ance on how best to internationally disseminate the results of research and developme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-term cooperation in science and technology from experience gained during project implement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s of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tter of Support 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s an relatively </a:t>
            </a:r>
            <a:r>
              <a:rPr b="1" lang="en" sz="1200" spc="-1" strike="noStrike">
                <a:solidFill>
                  <a:srgbClr val="000000"/>
                </a:solidFill>
                <a:latin typeface="Times New Roman"/>
              </a:rPr>
              <a:t>passive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 expression of approval by a Western scientist regar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 scientist, project team or institute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the direction of current or proposed research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positive past experiences working with the team;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the value of proposed research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 Letter of Support differs from a Pledge of Collaboration by virtue of two element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t does not contain a specific assessment of the strength of the current proposal and/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t does not convey a clear commitment to future participation or engagement in that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STCU policy requir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One Letter of Collaboration or two Letters of Support before a regular project proposal can leave STCU for review by the Financing Pa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f a project is selected for funding, the project team must find a Collaborator from the territory of the funding Party before the project agreement can be fina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f the original Letter of Collaboration was from a scientist in the EU, and the project is funded by the U.S., they will need to locate a U.S. Collabor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f the project had only Letters of Support, they will now need to find a Collabor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unded STCU project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ave a Partner or a Collaborato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offers scientists three paths to fu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rojects funded from a shared pot of f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Projects funded by Government 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Projects funded by commercial organ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ree paths share common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Government Concur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agement with Western scientific or technical personnel, either as Partners (donors) or as Collaborators (volunteer advis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r 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prolife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 the spread of Weapons of Mass Destruction (WMD) expertise by support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vilian research and development activities of Azeri, Georgian, Moldovan, Ukrainian and Uzbek scientists and engineers formerly involved with WM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means of deli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stainable Redir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opportunities for former WMD scientists and engineers to develop sustainable civilian research work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be eligible for STCU funding, at least 30%, and preferably 50%, of the members of a proposed project team must be former weapons scientis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77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, STCU Governing Parties include 8 sta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, EU, and the USA are the Funding Pa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untries of the FSU are the Recipient Pa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97 STCU has 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hed a Partner Program providing govern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al agencies and pri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, industrial companies 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stered at the territories of Funding Parties with a possibility of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ess to highly q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ied scientific community of the Recipient Countries and impleme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 of R&amp;D projects using STCU s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ices and p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 including project administ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, 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oring, and 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p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e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Collaborative Scientific Re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jects are funded by governments of Financing Par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jects are funded by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overnment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vate-sect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s in the territories of the Financing Pa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ree types of STCU Proj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ul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elected for funding based on multiple considerations, which may include technical merit, contribution to non-proliferation aims, policy priorities, potential for integration of scientists into global science community, commercial potential or prospect for sustainabil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posal competes with all other regular project propos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j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overnment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arate pots of money, separate ru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n-Governmental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competition; just need to locate willing partner to finance project &amp; receive STCU approv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Who can apply?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Recipient Part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tion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submit project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y be an institute, university, design office, state enterprise, corporation, firm, fund, foundation, or other legally-registered organiz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ral organizations, in one or more STCU recipient countries, may submit a ‘joint proposal.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team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led b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manage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develop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grant recipients must be citizens of an STCU recipient countr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least 30%, preferably 50%, of the team must formerly have been involved with weapons of mass destruction and their means of deliver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ng scientists may participate;  they can even form and lead their own teams, so long as the resultant team meets STCU guideli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oint Proposal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enable small groups of scientists to compete effectively, by allowing them to add resources from other organizations to inclu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fficient numbers of former weapons scientists to meet STCU guidelin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ecialists with skills or abilities critical to achieve project objectiv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Who can apply?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Recipient Part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tion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submit project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y be an institute, university, design office, state enterprise, corporation, firm, fund, foundation, or other legally-registered organiz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ral organizations, in one or more STCU recipient countries, may submit a ‘joint proposal.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team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led b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manage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develop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grant recipients must be citizens of an STCU recipient countr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least 30%, preferably 50%, of the team must formerly have been involved with weapons of mass destruction and their means of deliver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ng scientists may participate;  they can even form and lead their own teams, so long as the resultant team meets STCU guideli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oint Proposal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enable small groups of scientists to compete effectively, by allowing them to add resources from other organizations to inclu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fficient numbers of former weapons scientists to meet STCU guidelin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ecialists with skills or abilities critical to achieve project objectiv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B8D8-1638-4E5F-8107-6AB434E7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3EF1-56FC-4BA7-B091-5C48F555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CBAF-E3F3-4FED-A1D0-47A2FB59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020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392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020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392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1329-CAC8-429B-B2AD-6AEEC79C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5EDE-AE0A-4303-90AB-FAE84362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6F8-95C6-4A4E-99E5-91D4662C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8B46-4EFE-4A97-A496-C47D79E4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3627-FAD5-4043-AB6E-879DFB8B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4520" y="2743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856-0EB3-4A2E-ADD6-EBE06771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7A14-2163-4991-ABD7-1C5E7F52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65D5-60C5-44AF-B87B-5064999E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435A-E156-4087-9FF1-6020FA46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360" y="6453000"/>
            <a:ext cx="25974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04CC-9615-4243-B244-0D363064614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453000"/>
            <a:ext cx="31366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453000"/>
            <a:ext cx="20638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4E45-3AD2-46D2-8479-39F483C53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0160" y="284040"/>
            <a:ext cx="769680" cy="113364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ина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эффективно конкурировать 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исании гра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4880" y="3886200"/>
            <a:ext cx="7677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ение вашей конкурентоспособности на получение гранта в УНТ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20880" y="549360"/>
            <a:ext cx="312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КРАИНСКИЙ НАУЧНО-ТЕХНОЛОГИЧЕСКИЙ ЦЕН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8880" y="64263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рт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полнительные виды деятельности УНТ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тентная поддерж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нты на зарубежные командировки для уче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ка конференций и семина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н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взаимных интересов между Западными партнерами и учеными стран УНТЦ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знес миссии и участие в выставк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рнизация Интерн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2160" y="5229360"/>
            <a:ext cx="784548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вшие военные ученые, которые не получили финансирование своих проектов от УНТЦ, могут участвовать в этих программ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3966-411D-4845-B969-C0412E4EC50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09D68-F3CB-44C5-9150-DD26A8A8CB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19120" y="6453360"/>
            <a:ext cx="83340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нансирование проектов УНТЦ </a:t>
            </a:r>
            <a:br>
              <a:rPr sz="3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ределение средств на текущие проект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.е. без учета выданных грантов на проектную деятельность в будущ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27160" y="1633680"/>
          <a:ext cx="976608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633680"/>
                    <a:ext cx="976608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 rot="16200000">
            <a:off x="-1267560" y="4118040"/>
            <a:ext cx="348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нансирование,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л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Ш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48520" y="5084640"/>
            <a:ext cx="151308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473960" y="5445000"/>
            <a:ext cx="57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84880" y="2371680"/>
            <a:ext cx="505080" cy="1488960"/>
          </a:xfrm>
          <a:custGeom>
            <a:avLst/>
            <a:gdLst>
              <a:gd name="textAreaLeft" fmla="*/ 322920 w 505080"/>
              <a:gd name="textAreaRight" fmla="*/ 505440 w 505080"/>
              <a:gd name="textAreaTop" fmla="*/ 38520 h 1488960"/>
              <a:gd name="textAreaBottom" fmla="*/ 1450440 h 148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61240" y="2060640"/>
            <a:ext cx="2016000" cy="863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89960" y="3257640"/>
            <a:ext cx="2087280" cy="892080"/>
          </a:xfrm>
          <a:prstGeom prst="hexagon">
            <a:avLst>
              <a:gd name="adj" fmla="val 58495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68960" y="2151000"/>
            <a:ext cx="16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правитель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в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2080" y="3303720"/>
            <a:ext cx="141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витель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в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50680" y="5207040"/>
            <a:ext cx="14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гуляр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C142-4B06-48B9-8DF4-A6E50E84C90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604CB-CFD6-439D-AA4B-764A75A7A8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тельственные программы работают через УНТ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918036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егодняшний день – 17</a:t>
            </a:r>
            <a:r>
              <a:rPr b="0" lang="ru-RU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тельственных партнеров, включ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ATOM Association, Gmb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Ассоциация Евроа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Planck Institute of Plasmaphys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Макс Планк Институт Плазмофиз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Department of Energy/Initiatives for Proliferation Prevention (DOE/IPP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Департамент США по энергетике/Инициатива по предотвращению распростра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Na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s of Health/National Cancer Institute (NIH/NCI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Национальные институты здравоохранения США/Национальный институт исследования р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F European Office of Aerospace Research and Developmen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Европейский офис Американских воздушных сил для исследований и развития в области космонав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Bio-Chem Redirect Prog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Программа США по переориент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iculture (USDA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Департамент сельского хозяйства СШ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Protection Agenc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Агентство по защите окружающей сре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32880" y="498600"/>
            <a:ext cx="1800000" cy="769680"/>
          </a:xfrm>
          <a:prstGeom prst="hexagon">
            <a:avLst>
              <a:gd name="adj" fmla="val 58466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76AF-C2D2-432E-BE7D-D29F38D82D1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08439-B9F0-4B8D-B269-E99D95CB22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48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тельственные партнерские прое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-5776920" y="2060640"/>
          <a:ext cx="2000556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76920" y="2060640"/>
                    <a:ext cx="2000556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712880" y="177336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8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кальных проек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 долларов США и 1.5 млн евр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29600" y="498600"/>
            <a:ext cx="1800000" cy="769680"/>
          </a:xfrm>
          <a:prstGeom prst="hexagon">
            <a:avLst>
              <a:gd name="adj" fmla="val 58466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8120" y="6438960"/>
            <a:ext cx="48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близительный усредненный курс, 1 доллар СШ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вр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E0DF-A77F-469A-B3C5-EBC4CFB2142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FFD43-5215-4243-8ACA-9F613E7A77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п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вительственные партнеры: ключ к самодостато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, свыше 9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правительственных партнеров, включа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+S Electron Technologies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лифорния, 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M Corporation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несота, 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ont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вэ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Electric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ью Йо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ью Йо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CL Chalk River Laboratories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тари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fina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и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elin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ермонт-Феранд,Фра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50320" y="55872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ED1-BE35-4204-A32C-D3424FF5E67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075BC-3278-40CC-945A-F81D5FCF54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пра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тельственные партнерские проек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-1569960" y="2203560"/>
          <a:ext cx="12815640" cy="43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69960" y="2203560"/>
                    <a:ext cx="12815640" cy="43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900080" y="1628640"/>
            <a:ext cx="69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 долларов США и 0.5 млн евр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08120" y="6438960"/>
            <a:ext cx="48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близительный усредненный курс, 1 доллар СШ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вр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61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8403-B9FA-4133-BF28-DE5C2ECAB33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493E6-6F98-4168-8661-323CDB85A3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цесс рассмотрения заявлени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1596960"/>
          <a:ext cx="874404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96960"/>
                    <a:ext cx="874404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00160" y="1487520"/>
            <a:ext cx="4537080" cy="52545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7720" y="1728720"/>
            <a:ext cx="3966840" cy="749160"/>
            <a:chOff x="477720" y="1728720"/>
            <a:chExt cx="3966840" cy="749160"/>
          </a:xfrm>
        </p:grpSpPr>
        <p:sp>
          <p:nvSpPr>
            <p:cNvPr id="171" name=""/>
            <p:cNvSpPr/>
            <p:nvPr/>
          </p:nvSpPr>
          <p:spPr>
            <a:xfrm>
              <a:off x="477720" y="1728720"/>
              <a:ext cx="396684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5400" y="1744560"/>
              <a:ext cx="3790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Подготовка предложения научной группой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РЕГИСТРАЦИОННАЯ СИСТЕМА 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ON-LIN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44600" y="2682720"/>
            <a:ext cx="4033440" cy="746280"/>
            <a:chOff x="444600" y="2682720"/>
            <a:chExt cx="4033440" cy="746280"/>
          </a:xfrm>
        </p:grpSpPr>
        <p:sp>
          <p:nvSpPr>
            <p:cNvPr id="174" name=""/>
            <p:cNvSpPr/>
            <p:nvPr/>
          </p:nvSpPr>
          <p:spPr>
            <a:xfrm>
              <a:off x="501120" y="2682720"/>
              <a:ext cx="397692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4600" y="2694240"/>
              <a:ext cx="3948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Ходатайство о получении поддержки от ученых-коллабораторов на территории стран финансирующих сторон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28480" y="4281480"/>
            <a:ext cx="3970080" cy="745920"/>
            <a:chOff x="528480" y="4281480"/>
            <a:chExt cx="3970080" cy="745920"/>
          </a:xfrm>
        </p:grpSpPr>
        <p:sp>
          <p:nvSpPr>
            <p:cNvPr id="177" name=""/>
            <p:cNvSpPr/>
            <p:nvPr/>
          </p:nvSpPr>
          <p:spPr>
            <a:xfrm>
              <a:off x="528480" y="4281480"/>
              <a:ext cx="397008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20" y="4281480"/>
              <a:ext cx="381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Рассмотрение предложений консультантами, которые нанимаются каждой из финансирующих сторон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71960" y="5218200"/>
            <a:ext cx="4028400" cy="745920"/>
            <a:chOff x="471960" y="5218200"/>
            <a:chExt cx="4028400" cy="745920"/>
          </a:xfrm>
        </p:grpSpPr>
        <p:sp>
          <p:nvSpPr>
            <p:cNvPr id="180" name=""/>
            <p:cNvSpPr/>
            <p:nvPr/>
          </p:nvSpPr>
          <p:spPr>
            <a:xfrm>
              <a:off x="525600" y="5218200"/>
              <a:ext cx="397476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1960" y="5229720"/>
              <a:ext cx="396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Административный совет УНТЦ одобряет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финансирование проект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июнь и декабрь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43080" y="6122880"/>
            <a:ext cx="4105080" cy="52020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близительно одно из четырех предложений в результате финансируе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68360" y="3595680"/>
            <a:ext cx="4033440" cy="528480"/>
            <a:chOff x="468360" y="3595680"/>
            <a:chExt cx="4033440" cy="528480"/>
          </a:xfrm>
        </p:grpSpPr>
        <p:sp>
          <p:nvSpPr>
            <p:cNvPr id="184" name=""/>
            <p:cNvSpPr/>
            <p:nvPr/>
          </p:nvSpPr>
          <p:spPr>
            <a:xfrm>
              <a:off x="524880" y="3595680"/>
              <a:ext cx="3976920" cy="486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8360" y="3603960"/>
              <a:ext cx="394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Согласие от правительства страны- реципиент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168880" y="1487520"/>
            <a:ext cx="4537080" cy="525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009900"/>
              </a:gs>
              <a:gs pos="100000">
                <a:srgbClr val="3333cc"/>
              </a:gs>
            </a:gsLst>
            <a:lin ang="10800000"/>
          </a:gra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381640" y="1728720"/>
            <a:ext cx="4095360" cy="1391760"/>
            <a:chOff x="5381640" y="1728720"/>
            <a:chExt cx="4095360" cy="1391760"/>
          </a:xfrm>
        </p:grpSpPr>
        <p:sp>
          <p:nvSpPr>
            <p:cNvPr id="188" name=""/>
            <p:cNvSpPr/>
            <p:nvPr/>
          </p:nvSpPr>
          <p:spPr>
            <a:xfrm>
              <a:off x="5381640" y="1728720"/>
              <a:ext cx="4095360" cy="13795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38880" y="1747800"/>
              <a:ext cx="40125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Организация на территории одной из финансирующих сторон выражает интерес к программе УНТЦ и становится ПАРТНЕРОМ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.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99"/>
                  </a:solidFill>
                  <a:uFillTx/>
                  <a:latin typeface="Arial"/>
                </a:rPr>
                <a:t>НЕОБХОДИМО ОДОБРЕНИЕ СТОРОН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30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 дней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4880" y="3255840"/>
            <a:ext cx="4104720" cy="528840"/>
            <a:chOff x="5384880" y="3255840"/>
            <a:chExt cx="4104720" cy="528840"/>
          </a:xfrm>
        </p:grpSpPr>
        <p:sp>
          <p:nvSpPr>
            <p:cNvPr id="191" name=""/>
            <p:cNvSpPr/>
            <p:nvPr/>
          </p:nvSpPr>
          <p:spPr>
            <a:xfrm>
              <a:off x="5384880" y="3255840"/>
              <a:ext cx="4104720" cy="5288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17640" y="3264120"/>
              <a:ext cx="392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Партнер и группа ученых разрабатывают проектное предлож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396040" y="4621320"/>
            <a:ext cx="4101480" cy="1067760"/>
            <a:chOff x="5396040" y="4621320"/>
            <a:chExt cx="4101480" cy="1067760"/>
          </a:xfrm>
        </p:grpSpPr>
        <p:sp>
          <p:nvSpPr>
            <p:cNvPr id="194" name=""/>
            <p:cNvSpPr/>
            <p:nvPr/>
          </p:nvSpPr>
          <p:spPr>
            <a:xfrm>
              <a:off x="5396040" y="4621320"/>
              <a:ext cx="4101480" cy="1067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36360" y="4645800"/>
              <a:ext cx="3943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Предложение рассматривается официальными лицами каждой из финансирующих сторо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45 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дней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338800" y="3952800"/>
            <a:ext cx="4158720" cy="526680"/>
            <a:chOff x="5338800" y="3952800"/>
            <a:chExt cx="4158720" cy="526680"/>
          </a:xfrm>
        </p:grpSpPr>
        <p:sp>
          <p:nvSpPr>
            <p:cNvPr id="197" name=""/>
            <p:cNvSpPr/>
            <p:nvPr/>
          </p:nvSpPr>
          <p:spPr>
            <a:xfrm>
              <a:off x="5397120" y="3952800"/>
              <a:ext cx="4100400" cy="5256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38800" y="3959280"/>
              <a:ext cx="40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Согласие от правительства страны-реципиента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429160" y="5848200"/>
            <a:ext cx="4101840" cy="752400"/>
            <a:chOff x="5429160" y="5848200"/>
            <a:chExt cx="4101840" cy="752400"/>
          </a:xfrm>
        </p:grpSpPr>
        <p:sp>
          <p:nvSpPr>
            <p:cNvPr id="200" name=""/>
            <p:cNvSpPr/>
            <p:nvPr/>
          </p:nvSpPr>
          <p:spPr>
            <a:xfrm>
              <a:off x="5429160" y="5848200"/>
              <a:ext cx="410184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15280" y="5867280"/>
              <a:ext cx="3827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Административный совет УНТЦ одобряет финансирование проект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вне цикла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184400" y="102708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Регулярные про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37200" y="102708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артнерские про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5BD8-6ADF-45A4-8B19-D000C81ED863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A0A81-8898-4394-9145-F8890D5756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1756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улярные проект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усилий: форма и процесс подачи заявления четко определ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ая конкуренция на получение финансирования: м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искателей соответствуют критериям от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тельственный партнерский проек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усилий, чтобы определить программу/мы и заполнить различные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конкурентов: каждая программа заинтересована в небольшой группе соискателей, занимающихся узконаправленными исследованиями и разработ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авительственный партнерский проек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всего усилий, чтобы найти потенциального коммерческого спонс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прямых конкурентов для данного источника финанс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D1ED-6CEB-479C-B6D5-AFA10CCED25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301C6-7B70-4117-A39D-B2B8BC8F94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ина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эффективно конкурировать 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исании гра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064880" y="3886200"/>
            <a:ext cx="7677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ение вашей конкурентоспособности на получение гранта в УНТ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раинский Научно-Технологический Цент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8880" y="64263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рт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зор семин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мастерства написания грант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Как «выиграть» новое финанс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одержание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, и сти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ие «типичного»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66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конкурентоспособ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олучении грантов от УНТ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Представление УНТ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ас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Как работает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ач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ярного проекта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НТ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годняшняя точка зрения рецензент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4880" y="4552920"/>
            <a:ext cx="18003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6C9B-8BAF-493A-A5DF-AB51D4F7323F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A06F9-B757-4250-81BA-2C201A1BDE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зор семин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мастерства написания грант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Как «выиграть» новое финанс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одержание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 и сти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ие «типичного»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66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конкурентоспособ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олучении грантов от УНТ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ас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Представление УНТ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работает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ач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ярного проекта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НТ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годняшняя точка зрения рецензент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4880" y="4206960"/>
            <a:ext cx="15843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1980-A592-4634-8EA1-C6AB955882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17D16-AB67-44B8-85AC-159EF142FC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м занимается УНТ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87058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редоставляет помощь учены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ые, не облагаемые налогом платежи (гранты) прямо на личные банковские счета уче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уги по «таможенной очистке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упка оборудования и материалов без налогов и пошл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в написании проектов и руководстве проек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омогает странам-донорам достичь их политических ц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 исследований в мирных цел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ие государственного разрешения и просмотр на предмет безопас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ое руководство проектами, включая технический и финансовый мониторин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мство с научной общественностью и возможностями в странах-реципиент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248-ABAD-45AB-ABF6-38F36B2625F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DD7C9-FC20-42F2-82C1-4F99354A36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работает УНТ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должен убедить стран-доноров, что деньги правильно потрачены в целях нераспространения ядерного оружия и научных знаний в области оружия массового уничтож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любому проекту по просьбе стран-доноров может быть проведен ауди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гранты должны быть такими, в которых можно отследить, что деньги идут реальным ученым, которые делают реальную рабо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УНТЦ оплата труда  является более важным, чем закупка оборудования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редлагаемые закупки обеспечивают людей возможностью работ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D16A-7AC6-4521-B028-027202043E6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3BCDD-9666-40D5-9549-447C25D8CC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ход УНТЦ к управлению про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назначает персонал, который координирует каждый регулярный и партнерский проек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ший специалист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хгалтер по проектам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ист по закупкам УНТ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трудники УНТЦ на регулярной основе (согласно расписанию) проверяют каждый партнерский и регулярный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чение шести месяцев от даты начала работ по проек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о впоследств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е возникновения проблем, более ча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26B3-6EA1-4634-B58C-E0AE2C7D3FF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0F7D7-6E61-40EC-BA48-C04DE681CE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икл прохождения регулярного проек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3760920"/>
            <a:ext cx="9566280" cy="2260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7840" y="1773360"/>
            <a:ext cx="9566280" cy="20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0088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1204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465600" y="3594240"/>
            <a:ext cx="366480" cy="428760"/>
            <a:chOff x="6465600" y="3594240"/>
            <a:chExt cx="366480" cy="428760"/>
          </a:xfrm>
        </p:grpSpPr>
        <p:sp>
          <p:nvSpPr>
            <p:cNvPr id="228" name=""/>
            <p:cNvSpPr/>
            <p:nvPr/>
          </p:nvSpPr>
          <p:spPr>
            <a:xfrm>
              <a:off x="678780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6560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070680" y="3313080"/>
            <a:ext cx="0" cy="525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0360" y="3252960"/>
            <a:ext cx="0" cy="536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98720" y="3281400"/>
            <a:ext cx="0" cy="507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753240" y="3592440"/>
            <a:ext cx="366480" cy="428760"/>
            <a:chOff x="6753240" y="3592440"/>
            <a:chExt cx="366480" cy="428760"/>
          </a:xfrm>
        </p:grpSpPr>
        <p:sp>
          <p:nvSpPr>
            <p:cNvPr id="234" name=""/>
            <p:cNvSpPr/>
            <p:nvPr/>
          </p:nvSpPr>
          <p:spPr>
            <a:xfrm>
              <a:off x="707544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5324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58520" y="3591000"/>
            <a:ext cx="366480" cy="428760"/>
            <a:chOff x="7058520" y="3591000"/>
            <a:chExt cx="366480" cy="428760"/>
          </a:xfrm>
        </p:grpSpPr>
        <p:sp>
          <p:nvSpPr>
            <p:cNvPr id="237" name=""/>
            <p:cNvSpPr/>
            <p:nvPr/>
          </p:nvSpPr>
          <p:spPr>
            <a:xfrm>
              <a:off x="738144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5852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362720" y="3592440"/>
            <a:ext cx="366480" cy="428760"/>
            <a:chOff x="7362720" y="3592440"/>
            <a:chExt cx="366480" cy="428760"/>
          </a:xfrm>
        </p:grpSpPr>
        <p:sp>
          <p:nvSpPr>
            <p:cNvPr id="240" name=""/>
            <p:cNvSpPr/>
            <p:nvPr/>
          </p:nvSpPr>
          <p:spPr>
            <a:xfrm>
              <a:off x="768492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6272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667640" y="3591000"/>
            <a:ext cx="366480" cy="428760"/>
            <a:chOff x="7667640" y="3591000"/>
            <a:chExt cx="366480" cy="428760"/>
          </a:xfrm>
        </p:grpSpPr>
        <p:sp>
          <p:nvSpPr>
            <p:cNvPr id="243" name=""/>
            <p:cNvSpPr/>
            <p:nvPr/>
          </p:nvSpPr>
          <p:spPr>
            <a:xfrm>
              <a:off x="798984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6764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972200" y="3592440"/>
            <a:ext cx="366480" cy="428760"/>
            <a:chOff x="7972200" y="3592440"/>
            <a:chExt cx="366480" cy="428760"/>
          </a:xfrm>
        </p:grpSpPr>
        <p:sp>
          <p:nvSpPr>
            <p:cNvPr id="246" name=""/>
            <p:cNvSpPr/>
            <p:nvPr/>
          </p:nvSpPr>
          <p:spPr>
            <a:xfrm>
              <a:off x="829440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7220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8277120" y="3594240"/>
            <a:ext cx="366480" cy="428760"/>
            <a:chOff x="8277120" y="3594240"/>
            <a:chExt cx="366480" cy="428760"/>
          </a:xfrm>
        </p:grpSpPr>
        <p:sp>
          <p:nvSpPr>
            <p:cNvPr id="249" name=""/>
            <p:cNvSpPr/>
            <p:nvPr/>
          </p:nvSpPr>
          <p:spPr>
            <a:xfrm>
              <a:off x="859932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7712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8582040" y="3591000"/>
            <a:ext cx="366480" cy="428760"/>
            <a:chOff x="8582040" y="3591000"/>
            <a:chExt cx="366480" cy="428760"/>
          </a:xfrm>
        </p:grpSpPr>
        <p:sp>
          <p:nvSpPr>
            <p:cNvPr id="252" name=""/>
            <p:cNvSpPr/>
            <p:nvPr/>
          </p:nvSpPr>
          <p:spPr>
            <a:xfrm>
              <a:off x="890424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58204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327400" y="2205000"/>
            <a:ext cx="176184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олн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6480" y="2205000"/>
            <a:ext cx="213840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говор по проекту и Рабочий пл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9200" y="2205000"/>
            <a:ext cx="185436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явка (короткая форм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2208240"/>
            <a:ext cx="289548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вартальные, технические, ежегодные и финальные отче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7894800" y="3284280"/>
            <a:ext cx="1009440" cy="30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427880" y="3284280"/>
            <a:ext cx="466920" cy="30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894800" y="3284280"/>
            <a:ext cx="380880" cy="32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834240" y="3284280"/>
            <a:ext cx="1060560" cy="30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12040" y="376092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4004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08480" y="3591000"/>
            <a:ext cx="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412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025280" y="3760920"/>
            <a:ext cx="54752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5280" y="3952800"/>
            <a:ext cx="22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седание Административного сове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7440" y="3948120"/>
            <a:ext cx="2160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проводительное письм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240" y="3946680"/>
            <a:ext cx="25099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м. исполнительного директора одобряе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истрация про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72120" y="3946680"/>
            <a:ext cx="341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зиты-мониторинги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а при изменении целей использования запланированных статей бюдже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65280" y="5064120"/>
            <a:ext cx="2238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94360" y="5064120"/>
            <a:ext cx="2490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  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40480" y="4941720"/>
            <a:ext cx="24814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072120" y="3746160"/>
            <a:ext cx="0" cy="13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16120" y="3230640"/>
            <a:ext cx="180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о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24120" y="3787920"/>
            <a:ext cx="0" cy="23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80" y="17478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Уче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3760" y="556416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отрудники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A6BC-8073-45C9-8525-6967F21DC006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69231-3A42-4645-94E5-D5272C5BF6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икл прохождения партнерского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0160" y="1844640"/>
            <a:ext cx="9432720" cy="1971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0160" y="3813120"/>
            <a:ext cx="9432720" cy="24242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1240" y="177336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Уче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5600" y="580536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отрудники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3355920"/>
            <a:ext cx="0" cy="581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3330720"/>
            <a:ext cx="0" cy="506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3000" y="2357280"/>
            <a:ext cx="196200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новик пятистраничной фор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38720" y="2357280"/>
            <a:ext cx="167616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ртнерский контра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370836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367020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56840" y="3833640"/>
            <a:ext cx="5522760" cy="32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181480" y="3833280"/>
            <a:ext cx="0" cy="17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57400" y="366408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62240" y="2357280"/>
            <a:ext cx="201924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истраничная форма-пред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3330720"/>
            <a:ext cx="0" cy="447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5537160"/>
            <a:ext cx="2475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3601800" y="3482640"/>
            <a:ext cx="76320" cy="98460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84600"/>
              <a:gd name="textAreaBottom" fmla="*/ 959040 h 98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21040" y="3975120"/>
            <a:ext cx="1560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н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79960" y="368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91120" y="368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945040" y="3666960"/>
            <a:ext cx="366480" cy="428760"/>
            <a:chOff x="5945040" y="3666960"/>
            <a:chExt cx="366480" cy="428760"/>
          </a:xfrm>
        </p:grpSpPr>
        <p:sp>
          <p:nvSpPr>
            <p:cNvPr id="301" name=""/>
            <p:cNvSpPr/>
            <p:nvPr/>
          </p:nvSpPr>
          <p:spPr>
            <a:xfrm>
              <a:off x="6267240" y="3666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45040" y="381924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232320" y="3665520"/>
            <a:ext cx="366480" cy="428760"/>
            <a:chOff x="6232320" y="3665520"/>
            <a:chExt cx="366480" cy="428760"/>
          </a:xfrm>
        </p:grpSpPr>
        <p:sp>
          <p:nvSpPr>
            <p:cNvPr id="304" name=""/>
            <p:cNvSpPr/>
            <p:nvPr/>
          </p:nvSpPr>
          <p:spPr>
            <a:xfrm>
              <a:off x="6554520" y="3665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32320" y="38178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537240" y="3664080"/>
            <a:ext cx="366480" cy="428760"/>
            <a:chOff x="6537240" y="3664080"/>
            <a:chExt cx="366480" cy="428760"/>
          </a:xfrm>
        </p:grpSpPr>
        <p:sp>
          <p:nvSpPr>
            <p:cNvPr id="307" name=""/>
            <p:cNvSpPr/>
            <p:nvPr/>
          </p:nvSpPr>
          <p:spPr>
            <a:xfrm>
              <a:off x="6859440" y="3664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37240" y="3816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842880" y="3665520"/>
            <a:ext cx="366480" cy="428760"/>
            <a:chOff x="6842880" y="3665520"/>
            <a:chExt cx="366480" cy="428760"/>
          </a:xfrm>
        </p:grpSpPr>
        <p:sp>
          <p:nvSpPr>
            <p:cNvPr id="310" name=""/>
            <p:cNvSpPr/>
            <p:nvPr/>
          </p:nvSpPr>
          <p:spPr>
            <a:xfrm>
              <a:off x="7164360" y="3665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42880" y="38178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146720" y="3664080"/>
            <a:ext cx="366480" cy="428760"/>
            <a:chOff x="7146720" y="3664080"/>
            <a:chExt cx="366480" cy="428760"/>
          </a:xfrm>
        </p:grpSpPr>
        <p:sp>
          <p:nvSpPr>
            <p:cNvPr id="313" name=""/>
            <p:cNvSpPr/>
            <p:nvPr/>
          </p:nvSpPr>
          <p:spPr>
            <a:xfrm>
              <a:off x="7468920" y="3664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46720" y="3816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451640" y="3665520"/>
            <a:ext cx="366480" cy="428760"/>
            <a:chOff x="7451640" y="3665520"/>
            <a:chExt cx="366480" cy="428760"/>
          </a:xfrm>
        </p:grpSpPr>
        <p:sp>
          <p:nvSpPr>
            <p:cNvPr id="316" name=""/>
            <p:cNvSpPr/>
            <p:nvPr/>
          </p:nvSpPr>
          <p:spPr>
            <a:xfrm>
              <a:off x="7773840" y="3665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51640" y="38178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7756200" y="3666960"/>
            <a:ext cx="366480" cy="428760"/>
            <a:chOff x="7756200" y="3666960"/>
            <a:chExt cx="366480" cy="428760"/>
          </a:xfrm>
        </p:grpSpPr>
        <p:sp>
          <p:nvSpPr>
            <p:cNvPr id="319" name=""/>
            <p:cNvSpPr/>
            <p:nvPr/>
          </p:nvSpPr>
          <p:spPr>
            <a:xfrm>
              <a:off x="8078400" y="3666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56200" y="381924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8383680" y="3664080"/>
            <a:ext cx="0" cy="178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062200" y="381636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2357280"/>
            <a:ext cx="298116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ические результаты, квартальные и финальные отче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7316640" y="3330720"/>
            <a:ext cx="106704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905520" y="3330720"/>
            <a:ext cx="4111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7316280" y="3330720"/>
            <a:ext cx="438120" cy="350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313320" y="3330720"/>
            <a:ext cx="10033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91120" y="383364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160880"/>
            <a:ext cx="1981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истр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92560" y="4284720"/>
            <a:ext cx="1805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раво Финансирующих сторон отказ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45240" y="399744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зиты-мониторинги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а при изменении целей использования запланированных статей бюдже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772480" y="28656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915400" y="302256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УНТ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809200" y="31845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8809200" y="2894040"/>
            <a:ext cx="32832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5181480"/>
            <a:ext cx="4724280" cy="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81480" y="5181480"/>
            <a:ext cx="4591080" cy="0"/>
          </a:xfrm>
          <a:prstGeom prst="line">
            <a:avLst/>
          </a:prstGeom>
          <a:ln w="19044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80" y="502920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енеджер Партнерской программ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990720" y="3860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5370480"/>
            <a:ext cx="979200" cy="0"/>
          </a:xfrm>
          <a:prstGeom prst="line">
            <a:avLst/>
          </a:prstGeom>
          <a:ln w="190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95880" y="5370480"/>
            <a:ext cx="3187800" cy="0"/>
          </a:xfrm>
          <a:prstGeom prst="line">
            <a:avLst/>
          </a:prstGeom>
          <a:ln w="190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43680" y="5232240"/>
            <a:ext cx="2172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91120" y="485136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5376960"/>
            <a:ext cx="3200400" cy="0"/>
          </a:xfrm>
          <a:prstGeom prst="line">
            <a:avLst/>
          </a:prstGeom>
          <a:ln w="190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16160" y="3303720"/>
            <a:ext cx="180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о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985240" y="2700360"/>
            <a:ext cx="1014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арт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97600" y="5516640"/>
            <a:ext cx="2475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39B-4BA1-496D-9F6E-270638BD69F6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FFB3B-BFDC-4404-B258-90011BF323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работает УНТ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омогает бывшим ученым - «оборонщикам» интегрироваться в мировую научную обществен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кать своих западных коллег в заинтересованном участии в осуществлении прое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аборат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сех регулярных проек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ездки на конференции и встречи с Западными коллегами поощряю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0599-37CC-4B1B-93BE-DAD31FDE8AF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6B146-CAB2-4C97-BDE4-49EA31F7E9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значи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лаборато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ый или технический эксперт с территории финансирующей стороны, который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имает участие как «неоплачиваемый» советник в регулярных проектах УНТЦ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исьменной форме поручается в помощи получателям гранта УНТ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пень их вовлеченности может варьировать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мум ожида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мотр рабочего пл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технических качеств и осуществимости данного пл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е данной «оценки» с научной командой и финансирующей сторо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держивание контактов с членами команды на регулярной основе в течение выполнения проек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организации может быть различ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поративный или частный сектор может быть полезным для уче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адемическая или правительственная принадлежность лаборатории, что на данный момент более часто встреч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F07-85DA-4881-A895-EBE27F788DF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7B315-D1B1-4FB5-AE73-B2C05AEDF8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1868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вынесения решения о финансировании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ации при разработке черновика предложения и рабочего пл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Просмотр и оценка рабочего плана после получения Правительственного разрешения</a:t>
            </a:r>
            <a:r>
              <a:rPr b="0" lang="en" sz="20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ывается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о научного предложения;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имость подхода и временные пределы;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е оборуд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ов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 период рассмотрения проектного предложения поддержание контактов с командой по проекту и финансирующими сторонами касательно результатов оценки,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ыражается как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тверждение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его плана;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лонение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омментариями и причинами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раниченное подтверждение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писаниями конкретных моментов, которые его беспокоят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32160" y="637524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F4F-90CB-4CF8-8D6C-5F160C08771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536CA-6EEF-4C74-9798-CA61D423B8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 того, как проект зафинансиров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Регулярно поддерживают контакты по электронной почте с институтом из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страны СНГ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Просматривают квартальные отчеты по проектам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ет команде проекта изменить техническую и коммерческую терминологию и язык для того, чтобы довести содержание до уровня, понятного северо-американскому или европейскому читател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цензен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 технической информацией и помощь, включая совместный просмотр технических отче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Предоставляют рекомендац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это необходи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беспечения выполнения целей проекта, как это было указано в Рабочем пла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ятся знаниями о разработках в прикладной науке и технологиях, касающихся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76520" y="6237360"/>
            <a:ext cx="56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13D-FA3A-4358-998D-FC42E81E683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9D45C-024E-4449-BA41-BD06E7650B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3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ходе проекта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кают других иностранных коллабораторов для помощи коман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ждают результаты похожих текущих исследований на Западе, в частности, в лаборатории, где работает сам коллаборат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ятся дефицитными материалами, пробами, образцами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ресурсами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роектной команде выбирать наиболее выгодные исследовательские инструменты, оборудование и необходимые химик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ят совместные или параллельные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ри интерпретации результ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тверждают результаты, используя независимые методы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оборудование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649600" y="6375240"/>
            <a:ext cx="604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7F7-1580-41EC-B775-4A384C38C3D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B580E-E5C3-4989-B37B-5B316C6283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ставление УНТ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ссия УНТ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у мы оказываем помощ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уда приходит эта помощ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поддержки, которую мы оказываем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образом мы оказываем помощ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регулярные проек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артнерские проек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еще делает УНТ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путь вам выбра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8EF-AAEE-4D0C-88AB-468675E73B3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14DFF-749F-4E21-BE77-BE73CBF92D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ходе проекта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ят совместные семинары, конференции и консуль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глашают ученых из команды проекта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позволяют использовать оборудование в лаборатории коллаборат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ещают места, где осуществляются научные проекты УНТЦ: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уется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инимум один, но не более трех раз в течение всего периода прохождения проекта УНТЦ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матривают и вносят поправки в черновой вариант финального отчета для того, чтобы удостовериться, что он четко отражает результаты проведенного исследования;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с публикациями и/или с использованием результатов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с коммерциализацией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05240" y="6375240"/>
            <a:ext cx="64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99C9-2D7B-4116-AACE-13F0B900B2C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5253E-11DB-4BDD-AFAD-E95674F11E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иск коллабора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методы использовались в поиске коллабораторов другими учеными УНТ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иск по Интернету людей, которые работают в той же обла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ициирование переписки с авторами публикаций и докладов на конференция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чество и налаживание контактов во время посещения международных конференций и выстав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ации с Партнерской группой УНТЦ, Старшими  специалистами и другими сотрудниками, которые имеют опыт в установлении сотрудничества с международными институт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84520" y="5373720"/>
            <a:ext cx="6264000" cy="1081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та же методология используется при поиске возможных источников финансиров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4317-31E1-451E-92DA-5AA862F868E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8CF5A-F4FA-4DD3-BA7F-0C9B653912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установить контакт с потенциальным коллаборато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рекомендуют ученые УНТ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ьтес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ш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ш опыт в данной сфере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ите, что может быть интересного для коллаборатора в предложенном вами проек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росите, знает ли он кого-нибудь, кто может быть заинтересован в том, чтобы участвовать на нефинансовой основе как советник по вашему проек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н скаж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мог бы заинтересовать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”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огд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шите возможности помощи коллаборато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ьте ознакомительные материалы об УНТ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йте более детальную информаци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дписанием соглашения о нераспространении информации, если проект коммерчески важ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9211-7DBF-4C97-BC2C-062F4778BFF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2AC5B-ADD4-4141-91F8-171CBFC095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выгодно коллаборатор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западного Коллаборато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акты с очень опытными учеными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женерами из Грузии, Узбекистана и Азербайджа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экспериментах на уникальных установках и оборудован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емые результа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защитой Прав интеллектуальной собственности для участников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ная направленность и результативность научно-исследовательской деятельности посредством обмена информацией и консульта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енциальное участие в коммерциализации результа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6E36-BE5F-4399-80FB-0CE105E2E02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44566-F155-4B8F-99E0-B37632F1AB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выгодно коллаборатор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104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участников проектов УНТ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ие в разработке и выполнении проек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ренность в  том, что проекты не дублируют уже существующие попытки в тех же областях нау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щь в определении подходящих источников специальных материалов и оборудования для использования в проект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ретение новых навыков, опыта и контактов с подобными центрами в других стран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ство о том, как лучше в международном масштабе использовать результаты исследований и разработ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осрочное сотрудничество по науке и технологии, полученное из опыта работы по выполнению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44A-C98D-40FC-ADFD-AD25164BB44C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BAE69-91F7-472D-B439-82B725D8A4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ьма поддер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о поддержки  - это достаточно пассивное выражение согласия Западным ученым касательно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ого, команды проекта или института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я текущего или предложенного исследования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тивного предыдущего опыта работы с командой по проекту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и предложенного исследования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о поддержки отличается от согласия быть Коллаборатором наличием двух элементов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о не содержит конкретной оценки сильных сторон данного предложения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ражает четкого обязательства участия или вовлечения в данный проект в будущем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361-6AF7-4E03-A94E-95E0396E681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BB696-2C68-4A61-B2B6-DBE0F28F65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ебования УНТ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ущая политика УНТЦ требу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 письмо Коллаборатора или два письма поддержки до того, как регулярный проект будет выставлен УНТЦ на западную экспертизу Финансирующих стор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оект выбран для финансирования, команда по проекту должна найти коллаборатора с территории Финансирующей стороны до того, как будет закончена работа по подготовке проектного соглаш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ервое письмо Коллаборатора было из ЕС, а проект зафинансирован США, то необходимо будет найти Коллаборатора из СШ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у проекта есть только письма поддержки, то нужно будет найти Коллабора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66920" y="5877000"/>
            <a:ext cx="718668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всех зафинансированных проектов УНТЦ должен быть партнер или Коллаборато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830A-CB34-457F-B41C-9EF31E2EF79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4C65A-BD88-48FB-BA18-8E7C37B64F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редлагает ученым три пути финансирова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улярные проекты, финансируются из совместного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тнерские проекты финансируются государственными организац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тнерские проекты финансируются коммерческими организац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три пути имеют общие элемент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тельственное разрешение страны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ный мониторинг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Западного научного или технического персонала, либо как Партнеров (доноров) либо как Коллабораторов (добровольных сове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2AD7-1CB3-4CA4-9C01-96CC96A97F8E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21811-DD74-422C-934B-44FB268A7A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ша ми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аспростран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твращать распространение опыта создания оружия массового поражения (ОМП) путем  поддержания научно-исследовательской деятельности, направленной на гражданские потребности ученых и инженеров Азербайджана, Грузии, Молдовы, Украины и Узбекистана, которые в  прошлом занимались разработкой оружия массового поражения и средств его достав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ойчивая переориента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вать условия бывшим ученым и инженерам – «оборонщикам» для устойчивого развития научно-исследовательской рабо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4280" y="4675320"/>
            <a:ext cx="869004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иметь право на получение финансирования УНТЦ, по меньшей мере 30%, а желательно 50% членов предлагаемой команды проекта должны иметь в прошлом стаж работы с оборонным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крытыми» тематикам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24160" y="6381720"/>
            <a:ext cx="69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о том, как соответствовать этому критерию вы найдете в слайдах «Кто может подавать заявление на получение гранта?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0C80-4029-4A1A-8216-14C6A8CBA1E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E4F09-EE89-4561-892D-F1AD6D6520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303120" y="6353280"/>
            <a:ext cx="69372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8663040" y="4749840"/>
            <a:ext cx="428040" cy="725040"/>
            <a:chOff x="8663040" y="4749840"/>
            <a:chExt cx="428040" cy="725040"/>
          </a:xfrm>
        </p:grpSpPr>
        <p:sp>
          <p:nvSpPr>
            <p:cNvPr id="68" name=""/>
            <p:cNvSpPr/>
            <p:nvPr/>
          </p:nvSpPr>
          <p:spPr>
            <a:xfrm>
              <a:off x="8663040" y="4749840"/>
              <a:ext cx="194400" cy="725040"/>
            </a:xfrm>
            <a:prstGeom prst="downArrow">
              <a:avLst>
                <a:gd name="adj1" fmla="val 50000"/>
                <a:gd name="adj2" fmla="val 932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897040" y="4749840"/>
              <a:ext cx="194040" cy="725040"/>
            </a:xfrm>
            <a:prstGeom prst="downArrow">
              <a:avLst>
                <a:gd name="adj1" fmla="val 50000"/>
                <a:gd name="adj2" fmla="val 93414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432160" y="6318360"/>
            <a:ext cx="1357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з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нансирующие стороны и страны – реципиен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03400" y="4749840"/>
            <a:ext cx="428400" cy="736200"/>
            <a:chOff x="2903400" y="4749840"/>
            <a:chExt cx="428400" cy="736200"/>
          </a:xfrm>
        </p:grpSpPr>
        <p:sp>
          <p:nvSpPr>
            <p:cNvPr id="73" name=""/>
            <p:cNvSpPr/>
            <p:nvPr/>
          </p:nvSpPr>
          <p:spPr>
            <a:xfrm>
              <a:off x="290340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3740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851360" y="2462040"/>
            <a:ext cx="461880" cy="1346400"/>
          </a:xfrm>
          <a:prstGeom prst="downArrow">
            <a:avLst>
              <a:gd name="adj1" fmla="val 50000"/>
              <a:gd name="adj2" fmla="val 72876"/>
            </a:avLst>
          </a:prstGeom>
          <a:gradFill rotWithShape="0">
            <a:gsLst>
              <a:gs pos="0">
                <a:srgbClr val="8194f1"/>
              </a:gs>
              <a:gs pos="100000">
                <a:srgbClr val="8194f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560" y="3200400"/>
            <a:ext cx="463680" cy="609480"/>
          </a:xfrm>
          <a:prstGeom prst="downArrow">
            <a:avLst>
              <a:gd name="adj1" fmla="val 50000"/>
              <a:gd name="adj2" fmla="val 328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61800" y="3801960"/>
            <a:ext cx="693720" cy="943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1680" y="6353280"/>
            <a:ext cx="176832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зербайдж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259160" y="1641600"/>
            <a:ext cx="1514520" cy="833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176880" y="5478480"/>
            <a:ext cx="1513080" cy="831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8120160" y="5481720"/>
            <a:ext cx="1512720" cy="83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295200" y="5481720"/>
            <a:ext cx="1792440" cy="83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2440080" y="5486400"/>
            <a:ext cx="1338120" cy="831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2880" y="3813120"/>
            <a:ext cx="9399600" cy="936720"/>
          </a:xfrm>
          <a:prstGeom prst="roundRect">
            <a:avLst>
              <a:gd name="adj" fmla="val 16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ru-RU" sz="3900" spc="-1" strike="noStrike">
                <a:solidFill>
                  <a:srgbClr val="000000"/>
                </a:solidFill>
                <a:latin typeface="Arial Narrow"/>
              </a:rPr>
              <a:t>Украинский научно-технологический центр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719760" y="4751280"/>
            <a:ext cx="428400" cy="726840"/>
            <a:chOff x="6719760" y="4751280"/>
            <a:chExt cx="428400" cy="726840"/>
          </a:xfrm>
        </p:grpSpPr>
        <p:sp>
          <p:nvSpPr>
            <p:cNvPr id="86" name=""/>
            <p:cNvSpPr/>
            <p:nvPr/>
          </p:nvSpPr>
          <p:spPr>
            <a:xfrm>
              <a:off x="6719760" y="4751280"/>
              <a:ext cx="194760" cy="726840"/>
            </a:xfrm>
            <a:prstGeom prst="downArrow">
              <a:avLst>
                <a:gd name="adj1" fmla="val 50000"/>
                <a:gd name="adj2" fmla="val 932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53760" y="4751280"/>
              <a:ext cx="194400" cy="726840"/>
            </a:xfrm>
            <a:prstGeom prst="downArrow">
              <a:avLst>
                <a:gd name="adj1" fmla="val 50000"/>
                <a:gd name="adj2" fmla="val 93472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979560" y="4751280"/>
            <a:ext cx="426600" cy="728280"/>
            <a:chOff x="979560" y="4751280"/>
            <a:chExt cx="426600" cy="728280"/>
          </a:xfrm>
        </p:grpSpPr>
        <p:sp>
          <p:nvSpPr>
            <p:cNvPr id="89" name=""/>
            <p:cNvSpPr/>
            <p:nvPr/>
          </p:nvSpPr>
          <p:spPr>
            <a:xfrm>
              <a:off x="979560" y="4751280"/>
              <a:ext cx="193680" cy="728280"/>
            </a:xfrm>
            <a:prstGeom prst="downArrow">
              <a:avLst>
                <a:gd name="adj1" fmla="val 50000"/>
                <a:gd name="adj2" fmla="val 940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2840" y="4751280"/>
              <a:ext cx="193320" cy="728280"/>
            </a:xfrm>
            <a:prstGeom prst="downArrow">
              <a:avLst>
                <a:gd name="adj1" fmla="val 50000"/>
                <a:gd name="adj2" fmla="val 94181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8620200" y="2467080"/>
            <a:ext cx="461880" cy="1346040"/>
          </a:xfrm>
          <a:prstGeom prst="downArrow">
            <a:avLst>
              <a:gd name="adj1" fmla="val 50000"/>
              <a:gd name="adj2" fmla="val 72857"/>
            </a:avLst>
          </a:prstGeom>
          <a:gradFill rotWithShape="0">
            <a:gsLst>
              <a:gs pos="0">
                <a:srgbClr val="8194f1"/>
              </a:gs>
              <a:gs pos="100000">
                <a:srgbClr val="7486d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50760" y="2476440"/>
            <a:ext cx="463680" cy="1346400"/>
          </a:xfrm>
          <a:prstGeom prst="downArrow">
            <a:avLst>
              <a:gd name="adj1" fmla="val 50000"/>
              <a:gd name="adj2" fmla="val 72593"/>
            </a:avLst>
          </a:prstGeom>
          <a:gradFill rotWithShape="0">
            <a:gsLst>
              <a:gs pos="0">
                <a:srgbClr val="8194f1"/>
              </a:gs>
              <a:gs pos="100000">
                <a:srgbClr val="7c8ee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417600" y="1628640"/>
            <a:ext cx="1514520" cy="831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8089920" y="1660680"/>
            <a:ext cx="1504800" cy="831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219720" y="6316560"/>
            <a:ext cx="1494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5080" y="6330960"/>
            <a:ext cx="143496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бекист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4520" y="243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0480" y="2465280"/>
            <a:ext cx="176868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04160" y="2465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778200" y="548604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5200" y="548964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200" y="631332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784520" y="2682360"/>
            <a:ext cx="2879280" cy="675000"/>
            <a:chOff x="1784520" y="2682360"/>
            <a:chExt cx="2879280" cy="675000"/>
          </a:xfrm>
        </p:grpSpPr>
        <p:sp>
          <p:nvSpPr>
            <p:cNvPr id="104" name=""/>
            <p:cNvSpPr/>
            <p:nvPr/>
          </p:nvSpPr>
          <p:spPr>
            <a:xfrm flipV="1">
              <a:off x="1784520" y="2681640"/>
              <a:ext cx="2879280" cy="675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98440" y="2760840"/>
              <a:ext cx="2300760" cy="4726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еправительственные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артн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824520" y="3213000"/>
            <a:ext cx="463680" cy="609840"/>
          </a:xfrm>
          <a:prstGeom prst="downArrow">
            <a:avLst>
              <a:gd name="adj1" fmla="val 50000"/>
              <a:gd name="adj2" fmla="val 328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743440" y="2701440"/>
            <a:ext cx="2516040" cy="628920"/>
            <a:chOff x="5743440" y="2701440"/>
            <a:chExt cx="2516040" cy="628920"/>
          </a:xfrm>
        </p:grpSpPr>
        <p:sp>
          <p:nvSpPr>
            <p:cNvPr id="108" name=""/>
            <p:cNvSpPr/>
            <p:nvPr/>
          </p:nvSpPr>
          <p:spPr>
            <a:xfrm flipV="1">
              <a:off x="5743440" y="2701080"/>
              <a:ext cx="2516040" cy="62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76360" y="2811960"/>
              <a:ext cx="2010960" cy="4402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авительственные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артн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4122720" y="5495760"/>
            <a:ext cx="1655640" cy="81756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4740120" y="4751280"/>
            <a:ext cx="428400" cy="736200"/>
            <a:chOff x="4740120" y="4751280"/>
            <a:chExt cx="428400" cy="736200"/>
          </a:xfrm>
        </p:grpSpPr>
        <p:sp>
          <p:nvSpPr>
            <p:cNvPr id="112" name=""/>
            <p:cNvSpPr/>
            <p:nvPr/>
          </p:nvSpPr>
          <p:spPr>
            <a:xfrm>
              <a:off x="4740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74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200480" y="6316560"/>
            <a:ext cx="1494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д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E145-E3F5-4DC1-93A6-E1966902FC7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327A7-99C8-40C0-8D07-5AD28E945D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местные научные исследования УНТ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ярные проек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ируются правительствами финансирующих стор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тнерские проек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ируются организациями, представляющи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тельстве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ный сек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территориях  стран – финансирующих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08160" y="4005360"/>
            <a:ext cx="3816360" cy="1633320"/>
          </a:xfrm>
          <a:prstGeom prst="hexagon">
            <a:avLst>
              <a:gd name="adj" fmla="val 58414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авительств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тнер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4720" y="4797360"/>
            <a:ext cx="2522520" cy="14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гуляр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ект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940360" y="4797360"/>
            <a:ext cx="3692520" cy="1513080"/>
            <a:chOff x="5940360" y="4797360"/>
            <a:chExt cx="3692520" cy="1513080"/>
          </a:xfrm>
        </p:grpSpPr>
        <p:sp>
          <p:nvSpPr>
            <p:cNvPr id="120" name=""/>
            <p:cNvSpPr/>
            <p:nvPr/>
          </p:nvSpPr>
          <p:spPr>
            <a:xfrm>
              <a:off x="5961240" y="4797360"/>
              <a:ext cx="3528720" cy="15130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40360" y="5157720"/>
              <a:ext cx="369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еправительствен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артнерские проект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404A-3996-4141-A627-36C57AE9C9D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3A515-F546-4177-A6C5-37DEE7045B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и вида проектов УНТ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72520" y="1557000"/>
            <a:ext cx="9137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ярные про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 о финансировании рассматривается на основании многих факторов, таких как технические качества, вклад в достижение целей о нераспространении ОМП, стратегические приоритеты финансирующих сторон, потенциал для интеграции ученых в мировое научное сообщество, коммерческий потенциал или перспективы для устойчивой самодостато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е рассматривается на конку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й основе с другими регулярными проектными предлож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тнерские проекты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тельстве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каждого партнера свои деньги и свои прави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равительственны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 конкуренции: просто нужно найти партнера, который бы хотел профинансировать проект и получить разрешение УНТ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24520" y="4272120"/>
            <a:ext cx="1228680" cy="525240"/>
          </a:xfrm>
          <a:prstGeom prst="hexagon">
            <a:avLst>
              <a:gd name="adj" fmla="val 58482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5240" y="5067360"/>
            <a:ext cx="1219320" cy="52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21200" y="1417680"/>
            <a:ext cx="8636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4D2-02C5-4252-8984-5D8E1C9DC44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512EE-ED1B-4023-9214-AE9D95A586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может подавать заявление на получение грант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922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роны – реципиента УНТЦ представляют на рассмотрение проектные пред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итут, университет, конструкторское бюро, государственное предприятие, корпорация, частная компания, фонд, учреждение, или другая юридически зарегистрированная организация.</a:t>
            </a:r>
            <a:r>
              <a:rPr b="0" lang="ru-RU" sz="2000" spc="-1" strike="noStrike">
                <a:solidFill>
                  <a:srgbClr val="00cc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колько организаций из одной или более стран-реципиентов УНТЦ могут представить на рассмотрение «совместное предложени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анды проект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атывают предложения под руководств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ководителей проек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лучатели грантов должны являться гражданами стран-реципиентов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а проекта должна состоять по меньшей мер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%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предпочтительно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 бывших военных учены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е раньше занимались разработкой ОМП и средствами их доста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дые ученые также могут принимать участие в проекте. Они</a:t>
            </a:r>
            <a:r>
              <a:rPr b="0" lang="ru-RU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же могут формировать и руководить своими собственными командами, при соблюдении вышеуказанного услов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2880" y="6453360"/>
            <a:ext cx="129564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B79B-1DAD-4679-8F99-31D4129D1D7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84C84-6981-4E24-8A50-CEF252CB14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может подавать заявление на получение грант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ые предложения способствуют небольшим группам ученым эффективно конкурировать в получении гранта. Они позволяют им добавить ресурсы других организаций и в результате включить в команду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аточное количество бывших военных ученых, чтобы соответствовать критериям УНТ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стов с навыками или знаниями, необходимыми для достижения целей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051B-1C22-4032-BD97-2415F181F88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321F4-922B-4735-A6F3-4C30FA0AEA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0:44:12Z</dcterms:created>
  <dc:creator>Chris Stuebner</dc:creator>
  <dc:description/>
  <dc:language>en-US</dc:language>
  <cp:lastModifiedBy>Chris Stuebner</cp:lastModifiedBy>
  <dcterms:modified xsi:type="dcterms:W3CDTF">2005-03-11T14:06:21Z</dcterms:modified>
  <cp:revision>101</cp:revision>
  <dc:subject/>
  <dc:title>Grant-Writing Workshop:  Competing More Effectively</dc:title>
</cp:coreProperties>
</file>