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712800" y="744120"/>
            <a:ext cx="537696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A532-3CA7-49BC-B88C-B1CA51118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5160" cy="37213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CI provided 3 millions for study on the 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sequences of Chernobyl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cident on th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oid cancer and leuk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a de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OARD funding in the amount of 1.9 millions was provided pref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ably for basic research in the area of material science, namely tit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um and alu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um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loys that includes a one half of this funding; the other half supported research in optics, nuclear physics, 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cond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tors, healt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SDA approved 14 projects in BIO area with Uzbek institutes and funded up to date 9 of them in the amount of 2.7 millions, There are 4projects at the Institute of Gen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cs and Plant Experimental Biology, 2 projects at the Institute of Bioorg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c Chemistry, 2 projects at the Institute of Z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gy, and 1 at the Cotton Growing Re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ch Institute. The list of the projects will be provided later in this present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PP supported 9 projects in the amount of 3.6 millions, the most of these projects are dealing with the pre-commercialization stage aimed at the creation of new employments in Ukraine. The most impressive projects will be presented later in this present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PA has become STCU Partner recently, in 2003; the first project will be launched soon; it will be devoted to 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agement and Destruction of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solete Pesticides in Pilot Oblasts in Ukraine (Cherkassy and Lviv Oblast).</a:t>
            </a: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IPP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ultip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r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se coating machine that will be installed at the General Electric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ding and Brazing Technology for Repair of Aircraft and Gas Turbine that will be implemented in Ukraine in cooperation with Pratt&amp;Whittney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ew revol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onary Europium Technology for 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tizing Food and Medical supplies, which creates a cornerstone for future multimillion industry (Invitation to the Presentation/Workshop is attached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4480-E548-430E-A615-AF8799D8A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na:  n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5160" cy="37213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9.7 million provided by the Non-governmental Partners up to date there is 1.6 million from Canada, 0.6 million from EU, and 7.6 million from the U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6960" cy="37227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6960" cy="3722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roduce ‘line’ activity, as refer to picture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volvement of three different areas:   Project Mgmt, Acct, and Ad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ority for S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milar, with fourth player:  Partnership M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5160" cy="37213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, STCU Governing Parties include 8 stat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ada, EU, and the USA are the Funding Pa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countries of the FSU are the Recipient Pa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97 STCU has l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hed a Partner Program providing govern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al agencies and priv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, industrial companies 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stered at the territories of Funding Parties with a possibility of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ess to highly q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u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ied scientific community of the Recipient Countries and implemen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on of R&amp;D projects using STCU s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vices and p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 including project administ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on, 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oring, and 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p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e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5D8F-79D4-4AA7-A2C9-4159CB41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2228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AE1F-A13F-4B38-9E38-674A90E3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1796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7CEF-95C6-42F9-9CCB-B3C32EDA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020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392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020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392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34F5-D536-4DAA-A7C9-8D595198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4599-6580-4261-B8C5-B5690BE7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397F-E8E4-4B2D-8668-EA24F078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1DC8-EC42-431F-AB5D-66EA5246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C5F3-99E3-4B2B-817A-F9D2FB6A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4520" y="2743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8384-0ED1-45B7-B1FE-48E8A531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7BCE-E457-471C-9D2D-7EF9B6A8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1796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6FD8-2EDD-4FC2-B0AD-D02F137B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3578-D9A8-4D7B-9EAF-72E2F8A6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360" y="6453000"/>
            <a:ext cx="25974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4D81-F9F8-49DD-A6EF-47E1609BA6C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453000"/>
            <a:ext cx="31366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453000"/>
            <a:ext cx="20638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B3C8-E605-4299-9619-4630CFD48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0160" y="284040"/>
            <a:ext cx="769680" cy="113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t-Writing Workshop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ng More Effectiv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ing Your Ability to Compete for STCU Grants, Part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20880" y="549360"/>
            <a:ext cx="31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&amp; TECHNOLOGY CENTER IN UKR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58440" y="64641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CU Project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90600" y="1633680"/>
          <a:ext cx="976608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1633680"/>
                    <a:ext cx="976608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 rot="10800000">
            <a:off x="272520" y="3087720"/>
            <a:ext cx="4237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ding, $US Mill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87960" y="1125360"/>
            <a:ext cx="671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99"/>
                </a:solidFill>
                <a:latin typeface="Arial"/>
              </a:rPr>
              <a:t>Disbursement of funds for on-going project activities, i.e., not grants awarded for future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48520" y="5084640"/>
            <a:ext cx="121932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473960" y="5445000"/>
            <a:ext cx="57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00880" y="2298600"/>
            <a:ext cx="504720" cy="1489320"/>
          </a:xfrm>
          <a:custGeom>
            <a:avLst/>
            <a:gdLst>
              <a:gd name="textAreaLeft" fmla="*/ 322560 w 504720"/>
              <a:gd name="textAreaRight" fmla="*/ 505080 w 504720"/>
              <a:gd name="textAreaTop" fmla="*/ 38520 h 1489320"/>
              <a:gd name="textAreaBottom" fmla="*/ 1450800 h 148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832880" y="215424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61240" y="3019320"/>
            <a:ext cx="1800360" cy="770040"/>
          </a:xfrm>
          <a:prstGeom prst="hexagon">
            <a:avLst>
              <a:gd name="adj" fmla="val 58450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34320" y="224784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Gov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75600" y="3138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53920" y="51577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0990-B050-4AF8-A400-652572286A8A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D08656-A893-4DB4-8849-CD6EA23883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vern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ke Use of STC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918036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ate, 17 Government Partners,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ATOM Association, Gm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Planck Institute of Plasma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Department of Energy/Initiatives for Proliferation Prevention (I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Na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s of Health/National Cancer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F European Office of Aerospace Research and Develop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-Chem Redirec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Department 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 Protection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16880" y="476280"/>
            <a:ext cx="1800000" cy="770040"/>
          </a:xfrm>
          <a:prstGeom prst="hexagon">
            <a:avLst>
              <a:gd name="adj" fmla="val 58439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AFBE-DA64-466A-B640-A576423B110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DD6D1-708F-4361-8F89-76FC4BF81E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vernment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-5776920" y="2205000"/>
          <a:ext cx="2000556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76920" y="2205000"/>
                    <a:ext cx="2000556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1352520" y="1628640"/>
            <a:ext cx="71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:  81 Unique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16.5 Million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€1.5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29600" y="404640"/>
            <a:ext cx="1800000" cy="770040"/>
          </a:xfrm>
          <a:prstGeom prst="hexagon">
            <a:avLst>
              <a:gd name="adj" fmla="val 58439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22680" y="6467400"/>
            <a:ext cx="44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stimated exchange rate, averaged over time, 1 USD: 1 E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58920" y="247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F020-9175-40BE-8B95-C05378994DA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F7063-94C9-4208-8E43-EAE3534B07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Governmental Partner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Key to Self-Sustain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ate, over 90 Non-Government Partners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+S Electron Technologies (California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M Corporation (Minnesota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ont (Delaware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Electric (New York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(New York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CL Chalk River Laboratories (Ontario, Can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fina (Paris, F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elin (Clermont-Ferrand, F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77240" y="47628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862B-38A5-4CED-A4EC-724CE3DEBE9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E6668-0DFA-4291-ADCC-C3888542F4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Government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artner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-1569960" y="2203560"/>
          <a:ext cx="12815640" cy="43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69960" y="2203560"/>
                    <a:ext cx="12815640" cy="43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333520" y="1628640"/>
            <a:ext cx="521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:  76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9.1 Million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€0.5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61240" y="47628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7040" y="239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41400" y="6467400"/>
            <a:ext cx="44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stimated exchange rate, averaged over time, 1 USD: 1 E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0AE3-A74E-4144-8512-A77BCEB3325D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384A5-774C-4C19-8F9E-591CE4493A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 Process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8360" y="1596960"/>
          <a:ext cx="8744040" cy="46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96960"/>
                    <a:ext cx="874404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874800" y="1487520"/>
            <a:ext cx="3862440" cy="52545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3800" y="1728720"/>
            <a:ext cx="3381120" cy="746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98440" y="1744560"/>
            <a:ext cx="323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Development of a proposal by the scientific tea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ON-LINE REGISTRATION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39680" y="2682720"/>
            <a:ext cx="3438360" cy="746280"/>
            <a:chOff x="1039680" y="2682720"/>
            <a:chExt cx="3438360" cy="746280"/>
          </a:xfrm>
        </p:grpSpPr>
        <p:sp>
          <p:nvSpPr>
            <p:cNvPr id="169" name=""/>
            <p:cNvSpPr/>
            <p:nvPr/>
          </p:nvSpPr>
          <p:spPr>
            <a:xfrm>
              <a:off x="1087920" y="2682720"/>
              <a:ext cx="3390120" cy="74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39680" y="2694240"/>
              <a:ext cx="3366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Solicitation of support from scientific collaborators in territories of Financing Par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114560" y="4149720"/>
            <a:ext cx="3384360" cy="745920"/>
            <a:chOff x="1114560" y="4149720"/>
            <a:chExt cx="3384360" cy="745920"/>
          </a:xfrm>
        </p:grpSpPr>
        <p:sp>
          <p:nvSpPr>
            <p:cNvPr id="172" name=""/>
            <p:cNvSpPr/>
            <p:nvPr/>
          </p:nvSpPr>
          <p:spPr>
            <a:xfrm>
              <a:off x="1114560" y="4149720"/>
              <a:ext cx="338436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98440" y="4149720"/>
              <a:ext cx="3254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view of the propos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y scientific advisors hired by each Financing Par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111320" y="5086440"/>
            <a:ext cx="3390480" cy="745920"/>
            <a:chOff x="1111320" y="5086440"/>
            <a:chExt cx="3390480" cy="745920"/>
          </a:xfrm>
        </p:grpSpPr>
        <p:sp>
          <p:nvSpPr>
            <p:cNvPr id="175" name=""/>
            <p:cNvSpPr/>
            <p:nvPr/>
          </p:nvSpPr>
          <p:spPr>
            <a:xfrm>
              <a:off x="1111320" y="5086440"/>
              <a:ext cx="339048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83280" y="5097960"/>
              <a:ext cx="2317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STCU Governing Bo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approves project fu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June and Decemb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281600" y="6021360"/>
            <a:ext cx="3192120" cy="52020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Historically, only one in four propos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eventually wins fu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063800" y="3646440"/>
            <a:ext cx="3438000" cy="316080"/>
            <a:chOff x="1063800" y="3646440"/>
            <a:chExt cx="3438000" cy="316080"/>
          </a:xfrm>
        </p:grpSpPr>
        <p:sp>
          <p:nvSpPr>
            <p:cNvPr id="179" name=""/>
            <p:cNvSpPr/>
            <p:nvPr/>
          </p:nvSpPr>
          <p:spPr>
            <a:xfrm>
              <a:off x="1112040" y="3646440"/>
              <a:ext cx="3389760" cy="316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63800" y="3651120"/>
              <a:ext cx="336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Concurrence from Host Gover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257800" y="1487520"/>
            <a:ext cx="3943440" cy="5254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009900"/>
              </a:gs>
              <a:gs pos="100000">
                <a:srgbClr val="3333cc"/>
              </a:gs>
            </a:gsLst>
            <a:lin ang="10800000"/>
          </a:gra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05560" y="1728720"/>
            <a:ext cx="3386160" cy="1379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53080" y="1747800"/>
            <a:ext cx="3317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Organisation from territory of one of the Financing Parties expresses interest in STCU program and applies to become a PARTN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99"/>
                </a:solidFill>
                <a:uFillTx/>
                <a:latin typeface="Arial"/>
              </a:rPr>
              <a:t>PARTIES’ APPROVAL REQU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30 day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605560" y="3286080"/>
            <a:ext cx="3388680" cy="746280"/>
            <a:chOff x="5605560" y="3286080"/>
            <a:chExt cx="3388680" cy="746280"/>
          </a:xfrm>
        </p:grpSpPr>
        <p:sp>
          <p:nvSpPr>
            <p:cNvPr id="185" name=""/>
            <p:cNvSpPr/>
            <p:nvPr/>
          </p:nvSpPr>
          <p:spPr>
            <a:xfrm>
              <a:off x="5605560" y="3286080"/>
              <a:ext cx="3388680" cy="74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06960" y="3297600"/>
              <a:ext cx="2462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Partner and scientific t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agree on a pro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and develop propos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619600" y="4699080"/>
            <a:ext cx="3391200" cy="747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53080" y="4716360"/>
            <a:ext cx="326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Review of the proposal by officials of each Financing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45 day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565600" y="4194000"/>
            <a:ext cx="3438360" cy="316080"/>
            <a:chOff x="5565600" y="4194000"/>
            <a:chExt cx="3438360" cy="316080"/>
          </a:xfrm>
        </p:grpSpPr>
        <p:sp>
          <p:nvSpPr>
            <p:cNvPr id="190" name=""/>
            <p:cNvSpPr/>
            <p:nvPr/>
          </p:nvSpPr>
          <p:spPr>
            <a:xfrm>
              <a:off x="5613840" y="4194000"/>
              <a:ext cx="3390120" cy="316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5600" y="4198680"/>
              <a:ext cx="336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Concurrence from Host Gover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653080" y="5589720"/>
            <a:ext cx="3390840" cy="7459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07160" y="5608800"/>
            <a:ext cx="316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STCU Governing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approves project fu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out-of-cyc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39800" y="10270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gular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33240" y="102708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tner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1CD8-545D-499A-B91D-A181F6B667B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8F5B4-BDA2-4726-883C-50F4F751D6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tom-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ffort required: clearly defined form and application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st competition for funding:  many applicants meet selection crite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al Part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effort required, to identify program/s and fill out varied fo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competitors: each program interests smaller group of applicants with focused research and development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Governmental Part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st effort required, to search for potential commercial spo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rect competitor for this source of fu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FE79-EF8F-4D4F-87CF-00973C936E2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5820C-7834-4D69-AB05-3C86E70B18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t-Writing Workshop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ng More Effectiv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ing Your Ability to Compete for STCU Grants, 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20880" y="549360"/>
            <a:ext cx="31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&amp; TECHNOLOGY CENTER IN UKR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58440" y="64641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0200" y="1557360"/>
            <a:ext cx="8694720" cy="1512720"/>
          </a:xfrm>
          <a:custGeom>
            <a:avLst/>
            <a:gdLst>
              <a:gd name="textAreaLeft" fmla="*/ 1090800 w 8694720"/>
              <a:gd name="textAreaRight" fmla="*/ 7603920 w 8694720"/>
              <a:gd name="textAreaTop" fmla="*/ 189720 h 1512720"/>
              <a:gd name="textAreaBottom" fmla="*/ 132300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roving Grantsma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Grantsmanship” defined; how to win new fin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-writing: content, form and sty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ing a “typical” propos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08160" y="3141720"/>
            <a:ext cx="7157880" cy="1652400"/>
          </a:xfrm>
          <a:custGeom>
            <a:avLst/>
            <a:gdLst>
              <a:gd name="textAreaLeft" fmla="*/ 995760 w 7157880"/>
              <a:gd name="textAreaRight" fmla="*/ 6162120 w 7157880"/>
              <a:gd name="textAreaTop" fmla="*/ 229680 h 1652400"/>
              <a:gd name="textAreaBottom" fmla="*/ 142272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41" y="21600"/>
                </a:lnTo>
                <a:lnTo>
                  <a:pt x="2259" y="21600"/>
                </a:lnTo>
                <a:close/>
              </a:path>
            </a:pathLst>
          </a:custGeom>
          <a:solidFill>
            <a:srgbClr val="99ff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ngthening Abilit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e for STCU 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to ST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t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ow STCU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32160" y="5878440"/>
            <a:ext cx="4752720" cy="790560"/>
          </a:xfrm>
          <a:custGeom>
            <a:avLst/>
            <a:gdLst>
              <a:gd name="textAreaLeft" fmla="*/ 598320 w 4752720"/>
              <a:gd name="textAreaRight" fmla="*/ 4154400 w 4752720"/>
              <a:gd name="textAreaTop" fmla="*/ 99360 h 790560"/>
              <a:gd name="textAreaBottom" fmla="*/ 691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4" y="21600"/>
                </a:lnTo>
                <a:lnTo>
                  <a:pt x="174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ying for STCU Regular Project Fundi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00160" y="4898880"/>
            <a:ext cx="5616720" cy="892440"/>
          </a:xfrm>
          <a:custGeom>
            <a:avLst/>
            <a:gdLst>
              <a:gd name="textAreaLeft" fmla="*/ 675000 w 5616720"/>
              <a:gd name="textAreaRight" fmla="*/ 4941720 w 5616720"/>
              <a:gd name="textAreaTop" fmla="*/ 107280 h 892440"/>
              <a:gd name="textAreaBottom" fmla="*/ 78516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7" y="21600"/>
                </a:lnTo>
                <a:lnTo>
                  <a:pt x="1523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US Review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65400" y="4522680"/>
            <a:ext cx="129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5329-FA6B-49F1-AD37-BD7DEAFDB051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B83D5-DC12-4BC1-99AD-A211B7E622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TCU Do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channels assistance to scien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, tax-free payments (grants) to researchers’ personal bank accou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s clearance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urement of equipment and materials free of duties and t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aching in grant-writing and projec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helps donor countries achieve their policy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peaceful, civilian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government concurrence and security re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ional project management, including technical and financial monito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of Recipient Parties’ R&amp;D communiti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A90D-EEED-47E6-B718-94E09B74921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E342A-05F7-4D2D-A9C5-545515A294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0200" y="1557360"/>
            <a:ext cx="8694720" cy="1512720"/>
          </a:xfrm>
          <a:custGeom>
            <a:avLst/>
            <a:gdLst>
              <a:gd name="textAreaLeft" fmla="*/ 1090800 w 8694720"/>
              <a:gd name="textAreaRight" fmla="*/ 7603920 w 8694720"/>
              <a:gd name="textAreaTop" fmla="*/ 189720 h 1512720"/>
              <a:gd name="textAreaBottom" fmla="*/ 132300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roving Grantsma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Grantsmanship” defined; how to win new fin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-writing: content, form and sty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ing a “typical” propos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08160" y="3141720"/>
            <a:ext cx="7157880" cy="1652400"/>
          </a:xfrm>
          <a:custGeom>
            <a:avLst/>
            <a:gdLst>
              <a:gd name="textAreaLeft" fmla="*/ 995760 w 7157880"/>
              <a:gd name="textAreaRight" fmla="*/ 6162120 w 7157880"/>
              <a:gd name="textAreaTop" fmla="*/ 229680 h 1652400"/>
              <a:gd name="textAreaBottom" fmla="*/ 142272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41" y="21600"/>
                </a:lnTo>
                <a:lnTo>
                  <a:pt x="2259" y="21600"/>
                </a:lnTo>
                <a:close/>
              </a:path>
            </a:pathLst>
          </a:custGeom>
          <a:solidFill>
            <a:srgbClr val="99ff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ngthening Abilit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e for STCU 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t 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roduction to ST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STCU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2160" y="5878440"/>
            <a:ext cx="4752720" cy="790560"/>
          </a:xfrm>
          <a:custGeom>
            <a:avLst/>
            <a:gdLst>
              <a:gd name="textAreaLeft" fmla="*/ 598320 w 4752720"/>
              <a:gd name="textAreaRight" fmla="*/ 4154400 w 4752720"/>
              <a:gd name="textAreaTop" fmla="*/ 99360 h 790560"/>
              <a:gd name="textAreaBottom" fmla="*/ 691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4" y="21600"/>
                </a:lnTo>
                <a:lnTo>
                  <a:pt x="174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ying for STCU Regular Project Fundi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00160" y="4898880"/>
            <a:ext cx="5616720" cy="892440"/>
          </a:xfrm>
          <a:custGeom>
            <a:avLst/>
            <a:gdLst>
              <a:gd name="textAreaLeft" fmla="*/ 675000 w 5616720"/>
              <a:gd name="textAreaRight" fmla="*/ 4941720 w 5616720"/>
              <a:gd name="textAreaTop" fmla="*/ 107280 h 892440"/>
              <a:gd name="textAreaBottom" fmla="*/ 78516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7" y="21600"/>
                </a:lnTo>
                <a:lnTo>
                  <a:pt x="1523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US Review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08160" y="4178160"/>
            <a:ext cx="12970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AFF3-D8DC-4A53-B254-7FF1868839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35201-1C08-4BD7-AC29-C5CA37685C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STCU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must assure donors that monies are well-spent, towards aim of non-proliferation of WMD scientific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project can be audited at donor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rants must be traceable to real scientists, doing re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TCU, salaries are of more importance than equi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posed purchases must clearly support ability of people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850D-561C-4147-B813-EA99AD08495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7E14E-5998-470D-B3CA-9F17A1C53E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CU Project Management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designates staff to monitor each regular and partner proj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ject Coordin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ject Accoun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curement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staff visit each project on a regular, scheduled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six months of operative commencem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year there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frequently if problems encoun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BC35-CD91-4AA4-AB8A-15688734417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AA8C8-06E3-4323-B16D-264E68F2B9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Project Life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0160" y="3760920"/>
            <a:ext cx="9432720" cy="17557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0160" y="2008080"/>
            <a:ext cx="9432720" cy="1755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89640" y="36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36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354720" y="3594240"/>
            <a:ext cx="366480" cy="428760"/>
            <a:chOff x="6354720" y="3594240"/>
            <a:chExt cx="366480" cy="428760"/>
          </a:xfrm>
        </p:grpSpPr>
        <p:sp>
          <p:nvSpPr>
            <p:cNvPr id="220" name=""/>
            <p:cNvSpPr/>
            <p:nvPr/>
          </p:nvSpPr>
          <p:spPr>
            <a:xfrm>
              <a:off x="6676920" y="359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54720" y="37465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715000" y="3433680"/>
            <a:ext cx="0" cy="304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3459240"/>
            <a:ext cx="0" cy="304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8800" y="3413160"/>
            <a:ext cx="0" cy="304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642000" y="3592440"/>
            <a:ext cx="366480" cy="428760"/>
            <a:chOff x="6642000" y="3592440"/>
            <a:chExt cx="366480" cy="428760"/>
          </a:xfrm>
        </p:grpSpPr>
        <p:sp>
          <p:nvSpPr>
            <p:cNvPr id="226" name=""/>
            <p:cNvSpPr/>
            <p:nvPr/>
          </p:nvSpPr>
          <p:spPr>
            <a:xfrm>
              <a:off x="696420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4200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947640" y="3591000"/>
            <a:ext cx="366480" cy="428760"/>
            <a:chOff x="6947640" y="3591000"/>
            <a:chExt cx="366480" cy="428760"/>
          </a:xfrm>
        </p:grpSpPr>
        <p:sp>
          <p:nvSpPr>
            <p:cNvPr id="229" name=""/>
            <p:cNvSpPr/>
            <p:nvPr/>
          </p:nvSpPr>
          <p:spPr>
            <a:xfrm>
              <a:off x="727020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4764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251480" y="3592440"/>
            <a:ext cx="366480" cy="428760"/>
            <a:chOff x="7251480" y="3592440"/>
            <a:chExt cx="366480" cy="428760"/>
          </a:xfrm>
        </p:grpSpPr>
        <p:sp>
          <p:nvSpPr>
            <p:cNvPr id="232" name=""/>
            <p:cNvSpPr/>
            <p:nvPr/>
          </p:nvSpPr>
          <p:spPr>
            <a:xfrm>
              <a:off x="757368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25148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556400" y="3591000"/>
            <a:ext cx="366480" cy="428760"/>
            <a:chOff x="7556400" y="3591000"/>
            <a:chExt cx="366480" cy="428760"/>
          </a:xfrm>
        </p:grpSpPr>
        <p:sp>
          <p:nvSpPr>
            <p:cNvPr id="235" name=""/>
            <p:cNvSpPr/>
            <p:nvPr/>
          </p:nvSpPr>
          <p:spPr>
            <a:xfrm>
              <a:off x="787860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5640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7861320" y="3592440"/>
            <a:ext cx="366480" cy="428760"/>
            <a:chOff x="7861320" y="3592440"/>
            <a:chExt cx="366480" cy="428760"/>
          </a:xfrm>
        </p:grpSpPr>
        <p:sp>
          <p:nvSpPr>
            <p:cNvPr id="238" name=""/>
            <p:cNvSpPr/>
            <p:nvPr/>
          </p:nvSpPr>
          <p:spPr>
            <a:xfrm>
              <a:off x="818352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86132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8165880" y="3594240"/>
            <a:ext cx="366480" cy="428760"/>
            <a:chOff x="8165880" y="3594240"/>
            <a:chExt cx="366480" cy="428760"/>
          </a:xfrm>
        </p:grpSpPr>
        <p:sp>
          <p:nvSpPr>
            <p:cNvPr id="241" name=""/>
            <p:cNvSpPr/>
            <p:nvPr/>
          </p:nvSpPr>
          <p:spPr>
            <a:xfrm>
              <a:off x="8488080" y="359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65880" y="37465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470800" y="3591000"/>
            <a:ext cx="366480" cy="428760"/>
            <a:chOff x="8470800" y="3591000"/>
            <a:chExt cx="366480" cy="428760"/>
          </a:xfrm>
        </p:grpSpPr>
        <p:sp>
          <p:nvSpPr>
            <p:cNvPr id="244" name=""/>
            <p:cNvSpPr/>
            <p:nvPr/>
          </p:nvSpPr>
          <p:spPr>
            <a:xfrm>
              <a:off x="879300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47080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209680" y="2720880"/>
            <a:ext cx="152424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ull-Fo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62520" y="2720880"/>
            <a:ext cx="236376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Agreement &amp; Work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680" y="2720880"/>
            <a:ext cx="156204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(Short-Fo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77120" y="2724120"/>
            <a:ext cx="289548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rterly, Technical, Annual &amp; Final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7783560" y="3414600"/>
            <a:ext cx="1009440" cy="176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316640" y="3419640"/>
            <a:ext cx="387360" cy="171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7724520" y="3409560"/>
            <a:ext cx="439560" cy="198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723000" y="3409560"/>
            <a:ext cx="1001880" cy="181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0800" y="376092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28800" y="3718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363528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3718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914040" y="3760920"/>
            <a:ext cx="547524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39466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52720" y="3946680"/>
            <a:ext cx="13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al Cover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946680"/>
            <a:ext cx="19810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D approval Reg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05720" y="39466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Vis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irection Le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859120" y="4626000"/>
            <a:ext cx="6055920" cy="380880"/>
            <a:chOff x="2859120" y="4626000"/>
            <a:chExt cx="6055920" cy="380880"/>
          </a:xfrm>
        </p:grpSpPr>
        <p:sp>
          <p:nvSpPr>
            <p:cNvPr id="264" name=""/>
            <p:cNvSpPr/>
            <p:nvPr/>
          </p:nvSpPr>
          <p:spPr>
            <a:xfrm>
              <a:off x="2859120" y="4626000"/>
              <a:ext cx="1561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ject Coordinators, DED, 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82200" y="4626000"/>
              <a:ext cx="1763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ject Coordinators Project  Accountants, Procurement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D, 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52120" y="4626000"/>
              <a:ext cx="1762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ject Coordinators Project  Accountants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curement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D, 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5715000" y="3746160"/>
            <a:ext cx="0" cy="90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66880" y="3459240"/>
            <a:ext cx="15624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ov’t. Concu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378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9440" y="20350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1600" y="50594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CU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112A-9A39-47DB-B794-EFF7372DF290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89842-268A-4FA1-8568-7E832B0B78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00160" y="3381480"/>
            <a:ext cx="9432720" cy="24238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0160" y="1628640"/>
            <a:ext cx="9432720" cy="1756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9440" y="162864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1600" y="52768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CU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Project Life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2924280"/>
            <a:ext cx="0" cy="581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2898720"/>
            <a:ext cx="0" cy="506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2209680"/>
            <a:ext cx="152388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ve-Page 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67080" y="2209680"/>
            <a:ext cx="167652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327672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91120" y="323856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56840" y="3402000"/>
            <a:ext cx="5522760" cy="32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181480" y="3401640"/>
            <a:ext cx="0" cy="17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63760" y="2971800"/>
            <a:ext cx="1560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ov’t. Concu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3232080"/>
            <a:ext cx="0" cy="57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2209680"/>
            <a:ext cx="152388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ve-Page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2898720"/>
            <a:ext cx="0" cy="447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67080" y="5105520"/>
            <a:ext cx="176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ject  Accountant Procurem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D, 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6200000">
            <a:off x="3602160" y="3050640"/>
            <a:ext cx="75960" cy="984600"/>
          </a:xfrm>
          <a:custGeom>
            <a:avLst/>
            <a:gdLst>
              <a:gd name="textAreaLeft" fmla="*/ 48600 w 75960"/>
              <a:gd name="textAreaRight" fmla="*/ 76320 w 75960"/>
              <a:gd name="textAreaTop" fmla="*/ 25560 h 984600"/>
              <a:gd name="textAreaBottom" fmla="*/ 959040 h 98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21040" y="3543480"/>
            <a:ext cx="15606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45 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79960" y="324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91120" y="324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945040" y="3235320"/>
            <a:ext cx="366480" cy="428760"/>
            <a:chOff x="5945040" y="3235320"/>
            <a:chExt cx="366480" cy="428760"/>
          </a:xfrm>
        </p:grpSpPr>
        <p:sp>
          <p:nvSpPr>
            <p:cNvPr id="295" name=""/>
            <p:cNvSpPr/>
            <p:nvPr/>
          </p:nvSpPr>
          <p:spPr>
            <a:xfrm>
              <a:off x="6267240" y="323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45040" y="33876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232320" y="3233880"/>
            <a:ext cx="366480" cy="428760"/>
            <a:chOff x="6232320" y="3233880"/>
            <a:chExt cx="366480" cy="428760"/>
          </a:xfrm>
        </p:grpSpPr>
        <p:sp>
          <p:nvSpPr>
            <p:cNvPr id="298" name=""/>
            <p:cNvSpPr/>
            <p:nvPr/>
          </p:nvSpPr>
          <p:spPr>
            <a:xfrm>
              <a:off x="6554520" y="323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32320" y="33861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537240" y="3232080"/>
            <a:ext cx="366480" cy="428760"/>
            <a:chOff x="6537240" y="3232080"/>
            <a:chExt cx="366480" cy="428760"/>
          </a:xfrm>
        </p:grpSpPr>
        <p:sp>
          <p:nvSpPr>
            <p:cNvPr id="301" name=""/>
            <p:cNvSpPr/>
            <p:nvPr/>
          </p:nvSpPr>
          <p:spPr>
            <a:xfrm>
              <a:off x="6859440" y="3232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37240" y="33843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842880" y="3233880"/>
            <a:ext cx="366480" cy="428760"/>
            <a:chOff x="6842880" y="3233880"/>
            <a:chExt cx="366480" cy="428760"/>
          </a:xfrm>
        </p:grpSpPr>
        <p:sp>
          <p:nvSpPr>
            <p:cNvPr id="304" name=""/>
            <p:cNvSpPr/>
            <p:nvPr/>
          </p:nvSpPr>
          <p:spPr>
            <a:xfrm>
              <a:off x="7164360" y="323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42880" y="33861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7146720" y="3232080"/>
            <a:ext cx="366480" cy="428760"/>
            <a:chOff x="7146720" y="3232080"/>
            <a:chExt cx="366480" cy="428760"/>
          </a:xfrm>
        </p:grpSpPr>
        <p:sp>
          <p:nvSpPr>
            <p:cNvPr id="307" name=""/>
            <p:cNvSpPr/>
            <p:nvPr/>
          </p:nvSpPr>
          <p:spPr>
            <a:xfrm>
              <a:off x="7468920" y="3232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46720" y="33843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7451640" y="3233880"/>
            <a:ext cx="366480" cy="428760"/>
            <a:chOff x="7451640" y="3233880"/>
            <a:chExt cx="366480" cy="428760"/>
          </a:xfrm>
        </p:grpSpPr>
        <p:sp>
          <p:nvSpPr>
            <p:cNvPr id="310" name=""/>
            <p:cNvSpPr/>
            <p:nvPr/>
          </p:nvSpPr>
          <p:spPr>
            <a:xfrm>
              <a:off x="7773840" y="323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51640" y="33861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7756200" y="3235320"/>
            <a:ext cx="366480" cy="428760"/>
            <a:chOff x="7756200" y="3235320"/>
            <a:chExt cx="366480" cy="428760"/>
          </a:xfrm>
        </p:grpSpPr>
        <p:sp>
          <p:nvSpPr>
            <p:cNvPr id="313" name=""/>
            <p:cNvSpPr/>
            <p:nvPr/>
          </p:nvSpPr>
          <p:spPr>
            <a:xfrm>
              <a:off x="8078400" y="323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56200" y="33876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8383680" y="310500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62200" y="3384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43760" y="2209680"/>
            <a:ext cx="281916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elive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rterly, Final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7316640" y="2898720"/>
            <a:ext cx="106704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6905520" y="2898720"/>
            <a:ext cx="41112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7316280" y="2898360"/>
            <a:ext cx="438120" cy="351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6313320" y="2898720"/>
            <a:ext cx="100332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91120" y="340200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66680" y="3728880"/>
            <a:ext cx="19814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14680" y="3852720"/>
            <a:ext cx="1438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ing Parties’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ight of Refu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43600" y="37180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Vis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ers of Re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42080" y="5105520"/>
            <a:ext cx="176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ject  Accoun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c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D, 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991720" y="2286000"/>
            <a:ext cx="857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772480" y="24336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915400" y="2590920"/>
            <a:ext cx="857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T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834400" y="27525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8834400" y="2461680"/>
            <a:ext cx="328680" cy="2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4749840"/>
            <a:ext cx="4724280" cy="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81480" y="4749840"/>
            <a:ext cx="4591080" cy="0"/>
          </a:xfrm>
          <a:prstGeom prst="line">
            <a:avLst/>
          </a:prstGeom>
          <a:ln w="190440">
            <a:solidFill>
              <a:srgbClr val="b2b2b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680" y="4597560"/>
            <a:ext cx="2349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artnership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990720" y="34286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91120" y="4938840"/>
            <a:ext cx="979200" cy="0"/>
          </a:xfrm>
          <a:prstGeom prst="line">
            <a:avLst/>
          </a:prstGeom>
          <a:ln w="190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95880" y="4938840"/>
            <a:ext cx="3187800" cy="0"/>
          </a:xfrm>
          <a:prstGeom prst="line">
            <a:avLst/>
          </a:prstGeom>
          <a:ln w="190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43680" y="4800600"/>
            <a:ext cx="2172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ject Coordin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91120" y="441972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90720" y="4944960"/>
            <a:ext cx="3200400" cy="0"/>
          </a:xfrm>
          <a:prstGeom prst="line">
            <a:avLst/>
          </a:prstGeom>
          <a:ln w="190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EE90-D714-4C81-AA35-1F0DAECFBA37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10371-2DE8-4CAA-8323-F96504B502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STCU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seeks to help integrate former weapons scientists into the broader international scient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 *must* invite Western colleagues to take an interest in their project’s progr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a “Collaborator” is *required* for all regular projec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el to conferences &amp; to meet Western colleagues is encoura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B8B1-BD88-4306-88C2-D3ABDED5563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55663-C561-498B-A0F6-894BF7CFA6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“Collaborator” M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fic or technical expert from the territory of the Financing Party wh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es as an un-paid advisor in a regular STCU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dges, in writing, to assist STCU grant recipi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 of involvement may vary; minimum expec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the project work pl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the technical merits and feasibility of that pl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that evaluation with the scientific team and financing Part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e regularly with the project team for lifetime of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affiliation may 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r private-sector may be more useful to scientis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ademic or government lab affiliation, so far, more typic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C81A-90A3-427E-9EFF-63234D9419B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29C98-1964-4AD3-90F7-E65DB023E7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1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Prior to funding deci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Provide recommendations during the development of the draft project proposal and work p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3333cc"/>
                </a:solidFill>
                <a:latin typeface="Arial"/>
              </a:rPr>
              <a:t>Review and assess work plan subsequent to HGC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   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Quality of science propos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Feasibility of approach and time lin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Adequacy of equipment/material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During consideration of the project proposal, </a:t>
            </a:r>
            <a:r>
              <a:rPr b="1" lang="en" sz="2000" spc="-1" strike="noStrike">
                <a:solidFill>
                  <a:srgbClr val="3333cc"/>
                </a:solidFill>
                <a:latin typeface="Arial"/>
              </a:rPr>
              <a:t>communicate to the project team and to the financing Parties the results of this assessment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, express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Approval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of the work pl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Disapproval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(along with reasons)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Limited approval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(along with a description of specific concer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6153-CBED-494B-880A-083450E7389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2E5C6-1C6A-4625-9588-B39D9E2F39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2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Project fun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mmunicate regularly by e-mail with CIS instit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view all quarterly project report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project team adjust technical and commercial language and terminology to an accepted level for a North American or European reader/revie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 technical information or assistance, including mutual review of technical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vide guidance or recommend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ppropriate, to enable attainment of project goals as set out in the work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awareness of developments in applied science and technology that relate to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D610-0A14-4010-86D2-9006A50FFF9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4F88B-63F7-4D2A-AA3F-BB452D1C11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3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As Project progre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Recruit other foreign collaborators to assist 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Communicate results of related on-going studies in West, particularly at collaborator’s labora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Share scarce materials, samples, and/or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Help project team select cost-advantageous research tools, instrumentation, and necessary chem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Conduct joint or parallel investig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Assist with interpretat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Verify results using independent methods and/or equi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C9D5-BDFA-476C-A5C1-6E259221D38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3AFF9-E919-4D0E-A3F1-6D71A82A04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4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As Project progre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Conduct joint seminars, workshops, and cons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Host scientists from project team and/or allow use of facilities at collaborator’s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Visit STCU scientists’ project s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(recommended: at least once, but not more than three times over lifetime of STCU projec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Review and edit draft final report, to ensure it clearly reflects results of the research condu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Assist with publication and/or disseminat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Help with commercializat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1B7-D2F5-490B-B16F-19AF3056D4C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CE052-2273-4C93-90BD-39C024E790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STC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Mi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m do we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where does the help c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Support We Prov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regular pro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partner pro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does the STCU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pick a path forw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4CC3-E5A5-4488-8B22-E99DF55C9F0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63FBC-9C28-4F28-A4CD-20D97BA066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a Collabo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ethods have worked for other STCU scienti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Internet for those doing science in same fiel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e correspondence with authors of publications and conference report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while attending international conferences and exhibi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 with STCU Partnership Group, Project Coordinators, and other staff members experienced in establishing cooperation with international institu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15640" y="5925960"/>
            <a:ext cx="7736760" cy="42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lso how one investigates possible sources of fund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D373-9A25-4D83-9F75-A1400241D85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81DEE-6806-436D-8FC7-224336B598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ing a Potential Collabor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STCU scientists recomm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you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, briefly, your experience in the fie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the collaborator might find interesting about your proposed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if he knows anyone who might be interested in serving as an unpaid advisor to your projec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e says, ‘I might be interested…”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ways that collaborators typically hel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introductory material on STC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more detailed project information (with a non-disclosure agreement in place, if project is commercially-sensi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34FA-8168-40C6-80FD-AEA2CEE97A1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6D0AE-6854-4545-9D8F-456E5804AE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Western Collaborat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with highly-skilled scientists and engineers from Georgia, Uzbekistan and Azerbaija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ion in experiments at unique installations and facilit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ated results arising from STCU Projects, (with protection of the Intellectual Property Rights of project participan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focus and efficiency of Research and Development activity through information exchange and consultat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stake in commercialization of resul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5703-EE46-4314-A388-F49A1614359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A0DFA-A5E6-4556-BD97-A7CECB5220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9104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TCU Project Participa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in the design and execution of project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rance that projects do not duplicate existing efforts in the same field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ance in identifying appropriate sources of special materials and equipment to be used in project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quisition of new skills, experience and contacts with related research centers in other countr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ance on how best to internationally disseminate the results of research and develop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-term cooperation in science and technology from experience gained during project implemen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C26-7683-478A-B957-332B31DA3D2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3479C-3D3A-43E9-B5CF-899F8764D8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ters of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tter of Support 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is an relatively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expression of approval by a Western scientist reg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a scientist, project team or institut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the direction of current or proposed researc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positive past experiences working with the team;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the value of proposed research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A Letter of Support differs from a Pledge of Collaboration by virtue of two ele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t does not contain a specific assessment of the strength of the current proposal and/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t does not convey a clear commitment to future participation or engagement in that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231F-1005-4199-BB99-FD335F8DE480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BD2D1-22BE-437A-85FF-EF7F3D45F3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CU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CU policy requi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One Letter of Collaboration or two Letters of Support before a regular project proposal can leave STCU for review by the Financing Pa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If a project is selected for funding, the project team must find a Collaborator from the territory of the funding Party before the project agreement can be final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f the original Letter of Collaboration was from a scientist in the EU, and the project is funded by the U.S., they will need to locate a U.S. Collabor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f the project had only Letters of Support, they will now need to find a Collabor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28520" y="6203880"/>
            <a:ext cx="970596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funded STCU project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a Partner or a Collabo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24F2-820F-4C73-9A72-8C14ED83B45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217C2-CD7C-42AC-AAD5-2910EA4521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offers scientists three paths to fun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Projects funded from a shared pot of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 Projects funded by Government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 Projects funded by commerci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ree paths share common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Government Concur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ject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ement with Western scientific or technical personnel, either as Partners (donors) or as Collaborators (volunteer advis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C6FD-9797-46F8-991B-896B510BE26E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EBA2D-7ACF-4D48-806E-1A3A3B535F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prolif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the spread of Weapons of Mass Destruction (WMD) expertise by suppor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ian research and development activities of Azeri, Georgian, Moldovan, Ukrainian and Uzbek scientists and engineers formerly involved with WM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ir means of deliv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stainable Re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opportunities for former WMD scientists and engineers to develop sustainable civilian research work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24160" y="4869000"/>
            <a:ext cx="7273800" cy="119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be eligible for STCU funding, at least 30%, and preferably 50%, of the members of a proposed project team must be former weapons scientists.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49040" y="6467400"/>
            <a:ext cx="59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e subsequent slide on ‘Who may apply?’ for suggestions on meeting this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3D46-0A51-41E8-97F3-1A7FE1BFA2E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DF239-CDA0-41C6-86CB-2EFC05BD53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8545680" y="4749840"/>
            <a:ext cx="428040" cy="725040"/>
            <a:chOff x="8545680" y="4749840"/>
            <a:chExt cx="428040" cy="725040"/>
          </a:xfrm>
        </p:grpSpPr>
        <p:sp>
          <p:nvSpPr>
            <p:cNvPr id="66" name=""/>
            <p:cNvSpPr/>
            <p:nvPr/>
          </p:nvSpPr>
          <p:spPr>
            <a:xfrm>
              <a:off x="8545680" y="4749840"/>
              <a:ext cx="194400" cy="725040"/>
            </a:xfrm>
            <a:prstGeom prst="downArrow">
              <a:avLst>
                <a:gd name="adj1" fmla="val 50000"/>
                <a:gd name="adj2" fmla="val 932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779680" y="4749840"/>
              <a:ext cx="194040" cy="725040"/>
            </a:xfrm>
            <a:prstGeom prst="downArrow">
              <a:avLst>
                <a:gd name="adj1" fmla="val 50000"/>
                <a:gd name="adj2" fmla="val 93414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478240" y="6391440"/>
            <a:ext cx="1357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ncing &amp; Recipient Pa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887560" y="4749840"/>
            <a:ext cx="428400" cy="736200"/>
            <a:chOff x="2887560" y="4749840"/>
            <a:chExt cx="428400" cy="736200"/>
          </a:xfrm>
        </p:grpSpPr>
        <p:sp>
          <p:nvSpPr>
            <p:cNvPr id="71" name=""/>
            <p:cNvSpPr/>
            <p:nvPr/>
          </p:nvSpPr>
          <p:spPr>
            <a:xfrm>
              <a:off x="2887560" y="474984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21560" y="474984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88000" y="2462040"/>
            <a:ext cx="461880" cy="1346400"/>
          </a:xfrm>
          <a:prstGeom prst="downArrow">
            <a:avLst>
              <a:gd name="adj1" fmla="val 50000"/>
              <a:gd name="adj2" fmla="val 72876"/>
            </a:avLst>
          </a:prstGeom>
          <a:gradFill rotWithShape="0">
            <a:gsLst>
              <a:gs pos="0">
                <a:srgbClr val="8194f1"/>
              </a:gs>
              <a:gs pos="100000">
                <a:srgbClr val="8194f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42000" y="2571840"/>
            <a:ext cx="462240" cy="1233360"/>
          </a:xfrm>
          <a:prstGeom prst="downArrow">
            <a:avLst>
              <a:gd name="adj1" fmla="val 50000"/>
              <a:gd name="adj2" fmla="val 667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90720" y="2579760"/>
            <a:ext cx="463680" cy="1230120"/>
          </a:xfrm>
          <a:prstGeom prst="downArrow">
            <a:avLst>
              <a:gd name="adj1" fmla="val 50000"/>
              <a:gd name="adj2" fmla="val 663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135840" y="2209680"/>
            <a:ext cx="1520640" cy="990720"/>
            <a:chOff x="6135840" y="2209680"/>
            <a:chExt cx="1520640" cy="990720"/>
          </a:xfrm>
        </p:grpSpPr>
        <p:sp>
          <p:nvSpPr>
            <p:cNvPr id="77" name=""/>
            <p:cNvSpPr/>
            <p:nvPr/>
          </p:nvSpPr>
          <p:spPr>
            <a:xfrm flipV="1">
              <a:off x="6135840" y="2209680"/>
              <a:ext cx="1520640" cy="9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76600" y="2382840"/>
              <a:ext cx="1215360" cy="6937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over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61800" y="3801960"/>
            <a:ext cx="693720" cy="94320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2270160" y="2197080"/>
            <a:ext cx="1520640" cy="990720"/>
            <a:chOff x="2270160" y="2197080"/>
            <a:chExt cx="1520640" cy="990720"/>
          </a:xfrm>
        </p:grpSpPr>
        <p:sp>
          <p:nvSpPr>
            <p:cNvPr id="81" name=""/>
            <p:cNvSpPr/>
            <p:nvPr/>
          </p:nvSpPr>
          <p:spPr>
            <a:xfrm flipV="1">
              <a:off x="2270160" y="2197080"/>
              <a:ext cx="1520640" cy="9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35760" y="2311560"/>
              <a:ext cx="1215000" cy="6937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n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over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7920" y="6426360"/>
            <a:ext cx="176832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erbaij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259160" y="1874880"/>
            <a:ext cx="1514520" cy="833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153120" y="5478480"/>
            <a:ext cx="1513080" cy="831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8002440" y="5481720"/>
            <a:ext cx="1513080" cy="831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71440" y="5481720"/>
            <a:ext cx="1792440" cy="830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2880" y="3813120"/>
            <a:ext cx="9344160" cy="936720"/>
          </a:xfrm>
          <a:prstGeom prst="roundRect">
            <a:avLst>
              <a:gd name="adj" fmla="val 166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900" spc="-1" strike="noStrike">
                <a:solidFill>
                  <a:srgbClr val="000000"/>
                </a:solidFill>
                <a:latin typeface="Arial Narrow"/>
              </a:rPr>
              <a:t>Science &amp; Technology Center in Ukrain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696000" y="4751280"/>
            <a:ext cx="428400" cy="726840"/>
            <a:chOff x="6696000" y="4751280"/>
            <a:chExt cx="428400" cy="726840"/>
          </a:xfrm>
        </p:grpSpPr>
        <p:sp>
          <p:nvSpPr>
            <p:cNvPr id="90" name=""/>
            <p:cNvSpPr/>
            <p:nvPr/>
          </p:nvSpPr>
          <p:spPr>
            <a:xfrm>
              <a:off x="6696000" y="4751280"/>
              <a:ext cx="194760" cy="726840"/>
            </a:xfrm>
            <a:prstGeom prst="downArrow">
              <a:avLst>
                <a:gd name="adj1" fmla="val 50000"/>
                <a:gd name="adj2" fmla="val 9329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30000" y="4751280"/>
              <a:ext cx="194400" cy="726840"/>
            </a:xfrm>
            <a:prstGeom prst="downArrow">
              <a:avLst>
                <a:gd name="adj1" fmla="val 50000"/>
                <a:gd name="adj2" fmla="val 93472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955800" y="4751280"/>
            <a:ext cx="426600" cy="728280"/>
            <a:chOff x="955800" y="4751280"/>
            <a:chExt cx="426600" cy="728280"/>
          </a:xfrm>
        </p:grpSpPr>
        <p:sp>
          <p:nvSpPr>
            <p:cNvPr id="93" name=""/>
            <p:cNvSpPr/>
            <p:nvPr/>
          </p:nvSpPr>
          <p:spPr>
            <a:xfrm>
              <a:off x="955800" y="4751280"/>
              <a:ext cx="193680" cy="728280"/>
            </a:xfrm>
            <a:prstGeom prst="downArrow">
              <a:avLst>
                <a:gd name="adj1" fmla="val 50000"/>
                <a:gd name="adj2" fmla="val 940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89080" y="4751280"/>
              <a:ext cx="193320" cy="728280"/>
            </a:xfrm>
            <a:prstGeom prst="downArrow">
              <a:avLst>
                <a:gd name="adj1" fmla="val 50000"/>
                <a:gd name="adj2" fmla="val 94181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8620200" y="2467080"/>
            <a:ext cx="461880" cy="1346040"/>
          </a:xfrm>
          <a:prstGeom prst="downArrow">
            <a:avLst>
              <a:gd name="adj1" fmla="val 50000"/>
              <a:gd name="adj2" fmla="val 72857"/>
            </a:avLst>
          </a:prstGeom>
          <a:gradFill rotWithShape="0">
            <a:gsLst>
              <a:gs pos="0">
                <a:srgbClr val="8194f1"/>
              </a:gs>
              <a:gs pos="100000">
                <a:srgbClr val="7486d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50760" y="2476440"/>
            <a:ext cx="463680" cy="1346400"/>
          </a:xfrm>
          <a:prstGeom prst="downArrow">
            <a:avLst>
              <a:gd name="adj1" fmla="val 50000"/>
              <a:gd name="adj2" fmla="val 72593"/>
            </a:avLst>
          </a:prstGeom>
          <a:gradFill rotWithShape="0">
            <a:gsLst>
              <a:gs pos="0">
                <a:srgbClr val="8194f1"/>
              </a:gs>
              <a:gs pos="100000">
                <a:srgbClr val="7c8ee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417600" y="1862280"/>
            <a:ext cx="1514520" cy="831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8089920" y="1893960"/>
            <a:ext cx="1504800" cy="831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95960" y="6389640"/>
            <a:ext cx="14940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37360" y="6404040"/>
            <a:ext cx="143532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zbekis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681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60880" y="2708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64560" y="2708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425680" y="5486040"/>
            <a:ext cx="1338120" cy="832320"/>
            <a:chOff x="2425680" y="5486040"/>
            <a:chExt cx="1338120" cy="832320"/>
          </a:xfrm>
        </p:grpSpPr>
        <p:pic>
          <p:nvPicPr>
            <p:cNvPr id="105" name="" descr=""/>
            <p:cNvPicPr/>
            <p:nvPr/>
          </p:nvPicPr>
          <p:blipFill>
            <a:blip r:embed="rId8"/>
            <a:stretch/>
          </p:blipFill>
          <p:spPr>
            <a:xfrm>
              <a:off x="2425680" y="5486400"/>
              <a:ext cx="133812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flipV="1">
              <a:off x="3763800" y="5486040"/>
              <a:ext cx="0" cy="8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71440" y="5489640"/>
            <a:ext cx="0" cy="8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1440" y="631332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4122720" y="5495760"/>
            <a:ext cx="1655640" cy="817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232160" y="6381720"/>
            <a:ext cx="1357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d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740120" y="4751280"/>
            <a:ext cx="428400" cy="736200"/>
            <a:chOff x="4740120" y="4751280"/>
            <a:chExt cx="428400" cy="736200"/>
          </a:xfrm>
        </p:grpSpPr>
        <p:sp>
          <p:nvSpPr>
            <p:cNvPr id="112" name=""/>
            <p:cNvSpPr/>
            <p:nvPr/>
          </p:nvSpPr>
          <p:spPr>
            <a:xfrm>
              <a:off x="4740120" y="475128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74120" y="475128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793-98EE-4706-88CC-5FB5E0C19E0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E169C-F9B6-4FE2-B86B-573F7102F6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can appl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CU Recipient Par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mit project propos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be an institute, university, design office, state enterprise, corporation, firm, fund, foundation, or other legally-registered 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organizations, in one or more STCU recipient countries, may submit a ‘joint proposal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tea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manag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evelop propos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grant recipients must be citizens of an STCU recipient count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30%, preferably 50%, of the team must formerly have been involved with weapons of mass destruction and their means of deliv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ng scientists may participate;  they can even form and lead their own teams, so long as the resultant team meets STCU guidel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t Propos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able small groups of scientists to compete effectively, by allowing them to add resources from other organizations to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fficient numbers of former weapons scientists to meet STCU guidelin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sts with skills or abilities critical to achieve project objec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DD0A-13B0-449D-87F0-A92432B3857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49135-B936-4BFB-8C4D-06A090775A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CU Collaborative Scientific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jects are funded by governments of Financing Pa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jects are funded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vate-sect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s in the territories of the Financing Pa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08160" y="4005360"/>
            <a:ext cx="3816360" cy="1633320"/>
          </a:xfrm>
          <a:prstGeom prst="hexagon">
            <a:avLst>
              <a:gd name="adj" fmla="val 58414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vernmen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95840" y="5025960"/>
            <a:ext cx="3529080" cy="15130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Governmental Partner Pro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20880" y="4910040"/>
            <a:ext cx="3025800" cy="14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D2E2-643E-42E8-9B20-1B85A695CA5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4BFBC-CED9-4C57-A750-382EBD7C56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 types of STCU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for funding based on multiple considerations, which may include technical merit, contribution to non-proliferation aims, policy priorities, potential for integration of scientists into global science community, commercial potential or prospect for sustain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 competes with all other regular project propos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 pots of money, separate r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Government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mpetition; just need to locate willing partner to finance project &amp; receive STCU appro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84560" y="4149720"/>
            <a:ext cx="1228680" cy="525600"/>
          </a:xfrm>
          <a:prstGeom prst="hexagon">
            <a:avLst>
              <a:gd name="adj" fmla="val 58442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5067360"/>
            <a:ext cx="1219320" cy="522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73600" y="1557360"/>
            <a:ext cx="8636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0CE0-CD09-4E89-9CB1-83436FA3FB9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D423D-3105-4697-AAD7-6E9EBBDF9A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CU Supplemental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workshops and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making services for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missions and trade sh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upgr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2160" y="5477040"/>
            <a:ext cx="7845480" cy="825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er Weapons Scientists who have not received STCU project funding may participate in many of these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9E7D-547E-487F-BB08-F4016039129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536C8-9BFE-42D4-B8E0-F7191216AB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10:44:12Z</dcterms:created>
  <dc:creator>Chris Stuebner</dc:creator>
  <dc:description/>
  <dc:language>en-US</dc:language>
  <cp:lastModifiedBy>Chris Stuebner</cp:lastModifiedBy>
  <dcterms:modified xsi:type="dcterms:W3CDTF">2005-03-07T12:18:58Z</dcterms:modified>
  <cp:revision>39</cp:revision>
  <dc:subject/>
  <dc:title>Grant-Writing Workshop:  Competing More Effectively</dc:title>
</cp:coreProperties>
</file>